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8B84-6B57-4E72-BBAB-C64AF536E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99C6-CC6B-4C35-B2F5-2A5A1B9A0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EE59-E15E-4DA6-AD47-B075EC324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B00D-8E52-4F59-810B-8F5769585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9DB97-BC0F-47E5-8A1F-B7AB681F9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D92EF-FB8A-4639-9188-1F132DE86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40020-1476-41E3-9E12-C974F074D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2AB00-A730-44CF-A8C5-31DDA8DAA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E0EE7-A096-47B2-B372-F521411F3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6D752-69C4-4634-8E0E-28E5F9483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63D02-FC0D-48B4-8825-98A8BCF16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8C5A-90CC-4DD5-9F0D-701FD119D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6262C-4143-4EC8-BA49-B8615CCD9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C7100-C330-4857-B9D4-C62240D29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DD0CA-DBEE-4115-8BAD-45D67BC70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0F6E3-CA48-48EA-AC19-71FC4E9A0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FB3F2-AF1B-499C-8E37-2BA7C6080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59E4-00D0-4845-829E-9D6C133B7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5A6A-02A2-4731-85ED-20991AE00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7AFA-9BFE-4567-8870-563944B65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57FB-B9AA-4ED1-8F55-00F49F7E8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4008-3075-44FA-AA3C-FEB0CA359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E873-72B1-4874-AB91-84631AFDA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C5B8-F5E0-4B8A-BB6C-1A28681B8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E0E76-7265-488C-9286-05C4A34B4FD9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7F301-1846-4FE6-B8D8-6E59C5F418BE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s://ru.wikipedia.org/wiki/&#1056;&#1080;&#1090;&#1086;&#1088;&#1080;&#1095;&#1077;&#1089;&#1082;&#1072;&#1103;_&#1092;&#1080;&#1075;&#1091;&#1088;&#1072;" TargetMode="Externa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s://dic.academic.ru/dic.nsf/ruwiki/191284" TargetMode="External"/><Relationship Id="rId2" Type="http://schemas.openxmlformats.org/officeDocument/2006/relationships/hyperlink" Target="https://dic.academic.ru/dic.nsf/ruwiki/5411" TargetMode="Externa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s://ru.wikipedia.org/wiki/&#1057;&#1090;&#1080;&#1083;&#1100;_&#1088;&#1077;&#1095;&#1080;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10920" y="1052640"/>
            <a:ext cx="784692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dbbd71"/>
                </a:solidFill>
                <a:latin typeface="Monotype Corsiva"/>
              </a:rPr>
              <a:t>Юридическая риторика</a:t>
            </a:r>
            <a:r>
              <a:rPr b="0" lang="en-US" sz="7200" spc="-1" strike="noStrike">
                <a:solidFill>
                  <a:srgbClr val="dbbd71"/>
                </a:solidFill>
                <a:latin typeface="Arial"/>
              </a:rPr>
              <a:t> </a:t>
            </a:r>
            <a:br>
              <a:rPr sz="7200"/>
            </a:br>
            <a:r>
              <a:rPr b="0" lang="en-US" sz="7200" spc="-1" strike="noStrike">
                <a:solidFill>
                  <a:srgbClr val="dbbd71"/>
                </a:solidFill>
                <a:latin typeface="Monotype Corsiva"/>
              </a:rPr>
              <a:t>семинар</a:t>
            </a:r>
            <a:endParaRPr b="0" lang="en-US" sz="72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bbd71"/>
                </a:solidFill>
                <a:latin typeface="Monotype Corsiva"/>
              </a:rPr>
              <a:t>Параллели́зм</a:t>
            </a:r>
            <a:r>
              <a:rPr b="0" lang="ru-RU" sz="4400" spc="-1" strike="noStrike">
                <a:solidFill>
                  <a:srgbClr val="dbbd71"/>
                </a:solidFill>
                <a:latin typeface="Monotype Corsiva"/>
              </a:rPr>
              <a:t>  -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риторическая фигура, представляющая собой расположение тождественных или сходных по грамматической и 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Monotype Corsiva"/>
              </a:rPr>
              <a:t>семантической</a:t>
            </a: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 структуре элементов речи в смежных частях текста, создающих единый поэтический образ. Параллельными элементами могут быть предложения, их части, словосочетания, слова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bbd71"/>
                </a:solidFill>
                <a:latin typeface="Monotype Corsiva"/>
              </a:rPr>
              <a:t>Градация</a:t>
            </a:r>
            <a:r>
              <a:rPr b="0" lang="en-US" sz="4400" spc="-1" strike="noStrike">
                <a:solidFill>
                  <a:srgbClr val="dbbd71"/>
                </a:solidFill>
                <a:latin typeface="Monotype Corsiva"/>
              </a:rPr>
              <a:t> -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Monotype Corsiva"/>
              </a:rPr>
              <a:t>стилистическая фигура, заключающаяся в последовательном нагнетании или, наоборот, ослаблении сравнений, образов, эпитетов, метафор и других выразительных средств художественной речи.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23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dbbd71"/>
                </a:solidFill>
                <a:latin typeface="Monotype Corsiva"/>
              </a:rPr>
              <a:t>Благодарю за внимание</a:t>
            </a:r>
            <a:endParaRPr b="0" lang="en-US" sz="6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3933360"/>
            <a:ext cx="8229600" cy="21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Monotype Corsiva"/>
              </a:rPr>
              <a:t>Соколова Надежда Викторовна, к.ю.н., доцент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95280" y="277920"/>
            <a:ext cx="8291520" cy="14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dbbd71"/>
                </a:solidFill>
                <a:latin typeface="Monotype Corsiva"/>
              </a:rPr>
              <a:t>ЗАДАНИЕ 1.</a:t>
            </a:r>
            <a:r>
              <a:rPr b="1" lang="en-US" sz="4000" spc="-1" strike="noStrike">
                <a:solidFill>
                  <a:srgbClr val="dbbd71"/>
                </a:solidFill>
                <a:latin typeface="Monotype Corsiva"/>
              </a:rPr>
              <a:t> 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50560" y="2708280"/>
            <a:ext cx="843588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1" lang="en-US" sz="5400" spc="-1" strike="noStrike">
                <a:solidFill>
                  <a:srgbClr val="ffffff"/>
                </a:solidFill>
                <a:latin typeface="Monotype Corsiva"/>
              </a:rPr>
              <a:t>Выразите мнение, можно ли по отношению юриста к языку судить о его «гражданской ценности»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9280" y="277920"/>
            <a:ext cx="814716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bbd71"/>
                </a:solidFill>
                <a:latin typeface="Monotype Corsiva"/>
              </a:rPr>
              <a:t>ЗАДАНИЕ 2.</a:t>
            </a:r>
            <a:r>
              <a:rPr b="1" lang="en-US" sz="4400" spc="-1" strike="noStrike">
                <a:solidFill>
                  <a:srgbClr val="dbbd71"/>
                </a:solidFill>
                <a:latin typeface="Monotype Corsiva"/>
              </a:rPr>
              <a:t>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Monotype Corsiva"/>
              </a:rPr>
              <a:t>Проанализируйте свою речь с точки зрения ее богатства: каков ваш словарный запас, каков состав употребляемой вами лексики, употребляете ли вы фразеологические обороты;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bbd71"/>
                </a:solidFill>
                <a:latin typeface="Monotype Corsiva"/>
              </a:rPr>
              <a:t>ЗАДАНИЕ 2 (продолжение)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Monotype Corsiva"/>
              </a:rPr>
              <a:t>характерны ли для вашей речи сложные синтаксические конструкции, вопросительные предложения, конструкции с причастными и деепричастными оборотами; встречается ли в вашей речи период, риторические вопросы, парцелляция, анафора, параллелизм, градация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18440" cy="13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bbd71"/>
                </a:solidFill>
                <a:latin typeface="Monotype Corsiva"/>
              </a:rPr>
              <a:t>ЗАДАНИЕ 2 (продолжение)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50920" y="1557000"/>
            <a:ext cx="86421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Monotype Corsiva"/>
              </a:rPr>
              <a:t>Используете ли вы красочные метафоры, образные сравнения, антитезу, пословицы и поговорки? На основании анализа сделайте вывод, присуща ли вам выразительность речи. Обращайте внимание на богатство речи ваших товарищей, преподавателей, ораторов, которых приходится слушать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bbd71"/>
                </a:solidFill>
                <a:latin typeface="Monotype Corsiva"/>
              </a:rPr>
              <a:t>Период</a:t>
            </a:r>
            <a:r>
              <a:rPr b="0" lang="en-US" sz="4400" spc="-1" strike="noStrike">
                <a:solidFill>
                  <a:srgbClr val="dbbd71"/>
                </a:solidFill>
                <a:latin typeface="Monotype Corsiva"/>
              </a:rPr>
              <a:t> в риторике,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пространное сложноподчинённое предложение, отличающееся полнотой развёртывания мысли и законченностью интонации. Полнота мысли достигается включением второстепенных предложений, всесторонне освещающих содержание главного предложения (по схеме «кто? что? где? какими средствами? почему? как? когда?»). 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dbbd71"/>
                </a:solidFill>
                <a:latin typeface="Monotype Corsiva"/>
              </a:rPr>
              <a:t>Ритори́ческий вопро́с</a:t>
            </a:r>
            <a:r>
              <a:rPr b="0" lang="ru-RU" sz="5400" spc="-1" strike="noStrike">
                <a:solidFill>
                  <a:srgbClr val="dbbd71"/>
                </a:solidFill>
                <a:latin typeface="Monotype Corsiva"/>
              </a:rPr>
              <a:t> —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en-US" sz="4000" spc="-1" strike="noStrike" u="sng">
                <a:solidFill>
                  <a:srgbClr val="ffcc66"/>
                </a:solidFill>
                <a:uFillTx/>
                <a:latin typeface="Monotype Corsiva"/>
                <a:hlinkClick r:id="rId1"/>
              </a:rPr>
              <a:t>риторическая фигура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Monotype Corsiva"/>
              </a:rPr>
              <a:t>, представляющая собой вопрос-утверждение, который не требует ответа.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bbd71"/>
                </a:solidFill>
                <a:latin typeface="Monotype Corsiva"/>
              </a:rPr>
              <a:t>Парцелляция</a:t>
            </a:r>
            <a:r>
              <a:rPr b="0" lang="en-US" sz="4800" spc="-1" strike="noStrike">
                <a:solidFill>
                  <a:srgbClr val="dbbd71"/>
                </a:solidFill>
                <a:latin typeface="Monotype Corsiva"/>
              </a:rPr>
              <a:t> —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Monotype Corsiva"/>
              </a:rPr>
              <a:t>экспрессивный синтаксический приём письменного </a:t>
            </a:r>
            <a:r>
              <a:rPr b="0" lang="en-US" sz="3600" spc="-1" strike="noStrike" u="sng">
                <a:solidFill>
                  <a:srgbClr val="ffcc66"/>
                </a:solidFill>
                <a:uFillTx/>
                <a:latin typeface="Monotype Corsiva"/>
                <a:hlinkClick r:id="rId1"/>
              </a:rPr>
              <a:t>литературного языка</a:t>
            </a:r>
            <a:r>
              <a:rPr b="0" lang="en-US" sz="3600" spc="-1" strike="noStrike">
                <a:solidFill>
                  <a:srgbClr val="ffffff"/>
                </a:solidFill>
                <a:latin typeface="Monotype Corsiva"/>
              </a:rPr>
              <a:t>, при котором </a:t>
            </a:r>
            <a:r>
              <a:rPr b="0" lang="en-US" sz="3600" spc="-1" strike="noStrike" u="sng">
                <a:solidFill>
                  <a:srgbClr val="ffcc66"/>
                </a:solidFill>
                <a:uFillTx/>
                <a:latin typeface="Monotype Corsiva"/>
                <a:hlinkClick r:id="rId2"/>
              </a:rPr>
              <a:t>предложение</a:t>
            </a:r>
            <a:r>
              <a:rPr b="0" lang="en-US" sz="3600" spc="-1" strike="noStrike">
                <a:solidFill>
                  <a:srgbClr val="ffffff"/>
                </a:solidFill>
                <a:latin typeface="Monotype Corsiva"/>
              </a:rPr>
              <a:t> интонационно делится на самостоятельные отрезки, графически выделенные как самостоятельные предложения. Парцелляция используется для создания экспрессивной окраски путём отрывистого произношения предложения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bbd71"/>
                </a:solidFill>
                <a:latin typeface="Monotype Corsiva"/>
              </a:rPr>
              <a:t>Ана́фора</a:t>
            </a:r>
            <a:r>
              <a:rPr b="0" lang="ru-RU" sz="4400" spc="-1" strike="noStrike">
                <a:solidFill>
                  <a:srgbClr val="dbbd71"/>
                </a:solidFill>
                <a:latin typeface="Monotype Corsiva"/>
              </a:rPr>
              <a:t> -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3600" spc="-1" strike="noStrike" u="sng">
                <a:solidFill>
                  <a:srgbClr val="ffcc66"/>
                </a:solidFill>
                <a:uFillTx/>
                <a:latin typeface="Monotype Corsiva"/>
                <a:hlinkClick r:id="rId1"/>
              </a:rPr>
              <a:t>стилистическая фигура</a:t>
            </a:r>
            <a:r>
              <a:rPr b="0" lang="ru-RU" sz="3600" spc="-1" strike="noStrike">
                <a:solidFill>
                  <a:srgbClr val="ffffff"/>
                </a:solidFill>
                <a:latin typeface="Monotype Corsiva"/>
              </a:rPr>
              <a:t>, состоящая в повторении языковых элементов: звуков, сло́ва или группы слов в начале каждого параллельного ряда, то есть в повторении начальных частей двух и более относительно самостоятельных отрезков речи (полустиший, стихов, строф, словосочетаний или предложений)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3T15:07:28Z</dcterms:created>
  <dc:creator>Admin</dc:creator>
  <dc:description/>
  <dc:language>en-US</dc:language>
  <cp:lastModifiedBy>azrail</cp:lastModifiedBy>
  <dcterms:modified xsi:type="dcterms:W3CDTF">2020-09-21T16:49:45Z</dcterms:modified>
  <cp:revision>17</cp:revision>
  <dc:subject/>
  <dc:title>Слайд 1</dc:title>
</cp:coreProperties>
</file>