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87E2-2197-431D-9465-603D4F2642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BB25-7ABC-4855-A8CD-E98E16E6D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9B8E-8E64-4705-9041-730FBCACA9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3935-B5D9-48FE-BBBA-78C2E524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500CC-3743-4054-AB15-51DD4CFA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86EEA-9F05-4FDB-AE76-1D5F8B0E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48B2-61F9-4359-8F22-B14513D9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FE28-359F-47E0-9132-9BDA4559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6454-3215-41FC-8CB8-6C91332E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9492-17FF-42FC-A16B-663398D5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3E91-88F5-4E13-A7AC-1624E622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508D-A2B6-4554-A6E1-3751E96A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E5E8-0AB8-4212-806F-3E4C9ACF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6443-C626-4222-A9E6-C134E7E3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F8E4A-FB1B-44CA-96A0-0ED84E95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5E8E-27C6-4384-B677-762D6707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FBDA-F51C-4CB8-9310-00D91700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7A44-CCA7-413E-95B3-177F6F2B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09C4-5951-46E4-9AC4-EE7B86C5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D757-B22F-4E94-8BC0-7D847136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371C-4E1F-496B-A4CB-470C0003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CC2DA-1293-449B-8060-A74C9ABC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707E-5E33-47F4-B2FD-56A0D912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81168-6A04-4D67-9D6F-C030852B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9E85-D539-4C31-BE11-0356F6D5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7B74B-B765-4796-A6B1-3050EAF8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00D2-CB8A-45F1-873F-B27E91F7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504D-9183-4B5D-AD22-F6C8A78725C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BE2A-79ED-4CDF-AA92-D3E61DEC579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9341-0B88-479D-B243-2A8184F0C23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0273-9209-4641-8CDC-F60A612BEB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OT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АЛИ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собенности применения и методология провед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ильные стороны могут выглядеть та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Хорошая репутация фирмы у постоянных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окая квалификация рабо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Известность на ры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ь руко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Наличие финансов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щищённость от сильного конкурентного д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Технологическое прево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имущества в области издержек…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Пример слабых сторон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аличие на отдельных участках устаревшего оборуд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7d"/>
                </a:solidFill>
                <a:latin typeface="Times New Roman"/>
              </a:rPr>
              <a:t>Низкая прибыльность основной проду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лабое отслеживание процесса выполнения стратег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7d"/>
                </a:solidFill>
                <a:latin typeface="Times New Roman"/>
              </a:rPr>
              <a:t>Внутрипроизводственные пробл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тставание в области исследований и разработ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7d"/>
                </a:solidFill>
                <a:latin typeface="Times New Roman"/>
              </a:rPr>
              <a:t>Недостаточное знание рынка и новинок рынка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Пример возможностей</a:t>
            </a: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 на новые рынки в два соседних реги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асширение ассортимента продукции путём закупки ряда продуктов у партнё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сопутствующих проду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Более глубокая сегментация рынка и гибкая ценовая 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редитных ресурсов для продвижения нов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дключение к новой государственной программе на раннем эта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ружественных СМИ для «раскрутки» новой серии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крытие сервис-центра для ремонта и обновления старых моделей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Пример уг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ая возможность появления новых конкурентов из других отра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Рост продаж замещающего проду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дление роста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еблагоприятная для бизнеса политика в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ние роли поставщиков в связи с их укрупн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Изменение потребностей и вкусов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демографические изменения, трудность набора новых сотрудников и т. д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Избранные сильные стор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ая репутация фирмы среди ключевых кл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азвитая системы управления производственными издерж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финансовой «подушки» (дружественного банка), сглаживающей сезонные колебания с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Избранные слабые стороны</a:t>
            </a: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ая работа «на склад» в силу негибкой ценовой поли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«Стареющий» ассортимент, отсутствие инноваций даже на уровне рацпред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регулярной обратной связи от ключевых клиентов и низовых сотру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Избранные три возмож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 с основным продуктом в два соседних рег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ткрытие сервис-центра и расширение сферы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е ассортиментное и ценовое предложение для ключевых клиентов (на базе своей и партнёрской продукци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Избранные три угро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ние давления поставщиков в связи с их укрупн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Рост продаж замещающих продуктов и их агрессивная рекл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 сильных специалистов в другие отрасли, трудность поиска но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пенсирующие мероприятия для основных угро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81080"/>
          <a:ext cx="8229600" cy="4664160"/>
        </p:xfrm>
        <a:graphic>
          <a:graphicData uri="http://schemas.openxmlformats.org/drawingml/2006/table">
            <a:tbl>
              <a:tblPr/>
              <a:tblGrid>
                <a:gridCol w="3400560"/>
                <a:gridCol w="482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роз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енсирующие меропри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ние роли поставщиков в связи с их укрупн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й мониторинг зарубежных поставщиков, поиск аналогичного сырь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 продаж замещающих продуктов и их агрессивная рекла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ая программа обучения коммерсантов и дилеров, публикации в дружественных СМИ о вреде замещающих проду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ход сильных специалистов в другие отрасли, трудность поиска нов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контрактной системы для удержания сильных специалистов и привлечения новых людей с ры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т матрицы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WOT-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за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981080"/>
          <a:ext cx="8229600" cy="4668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93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ро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в реги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ис-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дл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оставщ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щающие прод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ход специалис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ие действия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ие действия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пу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издерж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ая под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сторо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ие действия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ие действия 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ов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еющий ассорти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обратной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лан занят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тория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OT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нали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тодология применения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OT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комендации по использованию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OT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нали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вопросы для формирования граничных стратег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981080"/>
          <a:ext cx="8380440" cy="4668840"/>
        </p:xfrm>
        <a:graphic>
          <a:graphicData uri="http://schemas.openxmlformats.org/drawingml/2006/table">
            <a:tbl>
              <a:tblPr/>
              <a:tblGrid>
                <a:gridCol w="2685960"/>
                <a:gridCol w="2500560"/>
                <a:gridCol w="3193920"/>
              </a:tblGrid>
              <a:tr h="3693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ро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в реги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ис-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дл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оставщ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щающие прод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ход специалис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ие действия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ие действия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пу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издержк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ая под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использовать сильные стороны и возможност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тразить угрозы за счёт сильных сторон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сторон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ие действия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ие действия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ов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еющий ассорти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обратной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использовать возможности рынка для нейтрализации слабых сторон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делать, если совпадут слабые стороны и угрозы.  Может быть, кардинально изменить бизнес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формирования поля граничных стратег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981080"/>
          <a:ext cx="8380440" cy="4160880"/>
        </p:xfrm>
        <a:graphic>
          <a:graphicData uri="http://schemas.openxmlformats.org/drawingml/2006/table">
            <a:tbl>
              <a:tblPr/>
              <a:tblGrid>
                <a:gridCol w="2257560"/>
                <a:gridCol w="2928960"/>
                <a:gridCol w="3193920"/>
              </a:tblGrid>
              <a:tr h="371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ро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 в реги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ис-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е дл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поставщ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щающие проду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ход специалис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ьные сторо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ие действия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ие действия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пу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издерж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ая подуш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партнёров в регион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межрегионального семина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специальных цен для новых реги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сервис-центра и группы сбора информации от кл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сторо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ие действия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тегические действия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15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ов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еющий ассорти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сутствие обратной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большого склада, закупки сырья «впр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ход на контрактную систему с ведущими специалистам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альтернативных поставщ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кое сокращение ассортимента, концентрация на одном сегменте ры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В идеале для каждой стратегии должны быть отработан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810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прогнозирования и планирова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труктура компании и штатное расписа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отивации персона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истема учёта ресурсов и затрат (по проектам и направлениям бизнеса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Times New Roman"/>
              </a:rPr>
              <a:t>Этап 7. Формулировка критери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Определить на каких условиях стратегия запускается в реализацию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Times New Roman"/>
              </a:rPr>
              <a:t>Определить базовую стратегию достижения цели на текущий момен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Зафиксировать причину выбора стратеги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Этап 8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Отвергнутых стратег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Цель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– определить мероприятия необходимые для перехода на другую базовую стратегию (</a:t>
            </a: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«запасной аэродром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Times New Roman"/>
              </a:rPr>
              <a:t>Этап 9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Times New Roman"/>
              </a:rPr>
              <a:t>Оценка стоимости страте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рная оценка не тольк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финансовых зат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4000" spc="-1" strike="noStrike">
                <a:solidFill>
                  <a:srgbClr val="00007d"/>
                </a:solidFill>
                <a:latin typeface="Times New Roman"/>
              </a:rPr>
              <a:t>материальных ресурсов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 но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времени первых лиц организа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SWOT-</a:t>
            </a:r>
            <a:r>
              <a:rPr b="1" lang="ru-RU" sz="4000" spc="-1" strike="noStrike" u="sng">
                <a:solidFill>
                  <a:srgbClr val="0000e5"/>
                </a:solidFill>
                <a:uFillTx/>
                <a:latin typeface="Times New Roman"/>
                <a:ea typeface="Times New Roman"/>
              </a:rPr>
              <a:t>анализ позволяет провести тестирование страте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ями собственн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бюджетом, сметой (надо оценить реализуемость за счёт собственных и заёмных средст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м необходимых для реализации стратегии материальных и человеческих ресурсов (собственных и вновь привлекаемы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57200" y="457200"/>
          <a:ext cx="8229600" cy="5410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1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WOT-анализ позволяет выявить и структурировать сильные и слабые </a:t>
                      </a: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нутренние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роны фирмы, а также потенциальные возможности и угрозы, существующие во </a:t>
                      </a: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нешней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реде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кроним был представлен профессором Эндрюсом  визуально в виде SWOT матр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7" descr=""/>
          <p:cNvPicPr/>
          <p:nvPr/>
        </p:nvPicPr>
        <p:blipFill>
          <a:blip r:embed="rId1"/>
          <a:stretch/>
        </p:blipFill>
        <p:spPr>
          <a:xfrm>
            <a:off x="2143080" y="2000160"/>
            <a:ext cx="47862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214280" y="1000080"/>
            <a:ext cx="72154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Times New Roman"/>
              </a:rPr>
              <a:t>Основные направления развития SWOT-анализ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ображение в модели динамических изменений фирмы и ее конкурентной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учет результатов анализа фирмы и ее конкурентной среды с использованием классических моделей стратегического план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работка SWOT-моделей с учетом различных сценариев развития ситуаций на ры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Times New Roman"/>
              </a:rPr>
              <a:t>Правила </a:t>
            </a:r>
            <a:r>
              <a:rPr b="1" lang="en-US" sz="4800" spc="-1" strike="noStrike" u="sng">
                <a:solidFill>
                  <a:srgbClr val="ff3300"/>
                </a:solidFill>
                <a:uFillTx/>
                <a:latin typeface="Times New Roman"/>
              </a:rPr>
              <a:t>SWOT-</a:t>
            </a:r>
            <a:r>
              <a:rPr b="1" lang="ru-RU" sz="4800" spc="-1" strike="noStrike" u="sng">
                <a:solidFill>
                  <a:srgbClr val="ff3300"/>
                </a:solidFill>
                <a:uFillTx/>
                <a:latin typeface="Times New Roman"/>
              </a:rPr>
              <a:t>анализ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щательно определите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сфер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аждого SWOT-анали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Поймите различия между элементами SWO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 силами, слабостями, возможностями и угроз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Сильные и слабые сторон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могут считаться таковыми лишь в том случае, если так их воспринимают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покупате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Будьте объективн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используйте разностороннюю входную информаци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imes New Roman"/>
              </a:rPr>
              <a:t>Избегайте пространных и двусмысленных формулировок</a:t>
            </a: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ff"/>
                </a:solidFill>
                <a:uFillTx/>
                <a:latin typeface="Times New Roman"/>
              </a:rPr>
              <a:t>Этапы</a:t>
            </a:r>
            <a:r>
              <a:rPr b="1" lang="ru-RU" sz="4800" spc="-1" strike="noStrike" u="sng">
                <a:solidFill>
                  <a:srgbClr val="9999ff"/>
                </a:solidFill>
                <a:uFillTx/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ff"/>
                </a:solidFill>
                <a:uFillTx/>
                <a:latin typeface="Times New Roman"/>
              </a:rPr>
              <a:t>SWOT-</a:t>
            </a:r>
            <a:r>
              <a:rPr b="1" lang="ru-RU" sz="4800" spc="-1" strike="noStrike" u="sng">
                <a:solidFill>
                  <a:srgbClr val="0000ff"/>
                </a:solidFill>
                <a:uFillTx/>
                <a:latin typeface="Times New Roman"/>
              </a:rPr>
              <a:t>анализ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Обозначение цели </a:t>
            </a:r>
            <a:r>
              <a:rPr b="1" lang="en-US" sz="2000" spc="-1" strike="noStrike">
                <a:solidFill>
                  <a:srgbClr val="00007d"/>
                </a:solidFill>
                <a:latin typeface="Times New Roman"/>
              </a:rPr>
              <a:t>SWOT-</a:t>
            </a: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анали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сильных и слабых сто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Определение рыночных возможностей и угр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нжирование и уточнение формулировок сильных и слабых сто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Ранжирование и уточнение формулировок рыночных возможностей и угр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матриц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Формулировка критериев выбора страте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«отвергнутых» стратег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Times New Roman"/>
              </a:rPr>
              <a:t>Примерная оценка стоимости  выбранной страте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тверждение стратег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Этап 1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ru-RU" sz="4400" spc="-1" strike="noStrike" u="sng">
                <a:solidFill>
                  <a:srgbClr val="0000ff"/>
                </a:solidFill>
                <a:uFillTx/>
                <a:latin typeface="Times New Roman"/>
              </a:rPr>
              <a:t>Обозначение 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SWOT-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анализ всегда делается под какие-то </a:t>
            </a:r>
            <a:r>
              <a:rPr b="1" lang="ru-RU" sz="3200" spc="-1" strike="noStrike" u="sng">
                <a:solidFill>
                  <a:srgbClr val="00007d"/>
                </a:solidFill>
                <a:uFillTx/>
                <a:latin typeface="Times New Roman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WOT-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анализ </a:t>
            </a:r>
            <a:r>
              <a:rPr b="1" lang="ru-RU" sz="3200" spc="-1" strike="noStrike" u="sng">
                <a:solidFill>
                  <a:srgbClr val="cc0000"/>
                </a:solidFill>
                <a:uFillTx/>
                <a:latin typeface="Times New Roman"/>
              </a:rPr>
              <a:t>не должен быть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абстракт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SWOT-</a:t>
            </a:r>
            <a:r>
              <a:rPr b="1" lang="ru-RU" sz="3200" spc="-1" strike="noStrike">
                <a:solidFill>
                  <a:srgbClr val="00007d"/>
                </a:solidFill>
                <a:latin typeface="Times New Roman"/>
              </a:rPr>
              <a:t>анализ – это качественная оценка сегодняшнего состояния организации и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возможных направлений движения в будущ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0:40:25Z</dcterms:created>
  <dc:creator>Семья</dc:creator>
  <dc:description/>
  <dc:language>en-US</dc:language>
  <cp:lastModifiedBy>Карина</cp:lastModifiedBy>
  <dcterms:modified xsi:type="dcterms:W3CDTF">2013-10-18T10:13:17Z</dcterms:modified>
  <cp:revision>42</cp:revision>
  <dc:subject/>
  <dc:title>SWOT-АНАЛИЗ</dc:title>
</cp:coreProperties>
</file>