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BAD-F796-4A66-B056-D1EF60BD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FC1-EE41-4307-A94C-6AFE600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54C-A498-4BF3-B72B-702E048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6A7-069E-4256-9E93-9112EF37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E67-D09C-4C16-A26B-B40A612B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E1D-FAFB-4436-8E01-BC1647E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968-75EA-4148-828C-71346A7E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9B7-BF71-44E9-911C-6662CF1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28C-98E5-46A5-BF50-A06D5BC4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8B3-A397-4F00-AE89-E7277B4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764-92E2-4976-8B20-1D14D39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FB0-72BE-4152-BD5C-C35EEC8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ECA-71A1-4325-BF65-EA18F2C38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41120" y="0"/>
          <a:ext cx="9285120" cy="6858000"/>
        </p:xfrm>
        <a:graphic>
          <a:graphicData uri="http://schemas.openxmlformats.org/drawingml/2006/table">
            <a:tbl>
              <a:tblPr/>
              <a:tblGrid>
                <a:gridCol w="1904760"/>
                <a:gridCol w="5545080"/>
                <a:gridCol w="183528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о-Уральский государственный универс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987720"/>
            <a:ext cx="7772400" cy="23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хнология машиностроения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3036960" y="1927080"/>
            <a:ext cx="275904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разработанных технологических схем сборки узлов составляем технологическую схему общей сборки изделия в соответствии с рисунком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 4 – Технологическая схема сборки изделия «Клапан перепуск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rcRect l="29531" t="22224" r="25118" b="20463"/>
          <a:stretch/>
        </p:blipFill>
        <p:spPr>
          <a:xfrm>
            <a:off x="2124000" y="2565360"/>
            <a:ext cx="52484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74680"/>
            <a:ext cx="86421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Оформление операционных карт технологического процесса сборки узлов и изделия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разработанных технологических схем сборки узлов и изделия, в соответствие ГОСТом 3.1407-86 [  ], оформляем операционные карты сборки (приложение 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онные карты сб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rcRect l="11864" t="21368" r="9568" b="7406"/>
          <a:stretch/>
        </p:blipFill>
        <p:spPr>
          <a:xfrm>
            <a:off x="971640" y="1484280"/>
            <a:ext cx="74167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11864" t="21368" r="9568" b="7406"/>
          <a:stretch/>
        </p:blipFill>
        <p:spPr>
          <a:xfrm>
            <a:off x="611280" y="476280"/>
            <a:ext cx="8137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rcRect l="10616" t="21452" r="9958" b="8253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74680"/>
            <a:ext cx="86421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бл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ГОСТ 3.1407-86. Единая система технологической документации. Формы и требования к заполнению и оформлению документов на технологические процессы (операции), специализированные по методам сборки. – М.: Издательство стандартов, 1986. – 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857160" y="265680"/>
            <a:ext cx="7143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науки и высшего образова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ое государственное автоном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жно-Уральский государственны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циональный исследовательский университет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итут открытого и дистанцион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федра Техника, технологии и строитель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ая работа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ирование технологического процесса сборки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лапан перепускн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сциплине «Технология машиностро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№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Б.А. Реше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20__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удент группы ДО-4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И.И. Ив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20__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ябинск 20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274680"/>
            <a:ext cx="87138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очный чертеж изделия …………………………………..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еречень наименований деталей, входящих   в изделие…………………………………………………………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Разбивка изделия на узлы 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Составление структурной схемы изделия …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Разработка технологических схем сборки …………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Оформление операционных карт технологического процесса сборки узлов и изделия в целом 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е А (обязательное) Операционные карты сборки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графия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C:\Users\Сергей\Desktop\Решетников тест\клапан\Безымянный.png"/>
          <p:cNvPicPr/>
          <p:nvPr/>
        </p:nvPicPr>
        <p:blipFill>
          <a:blip r:embed="rId1"/>
          <a:stretch/>
        </p:blipFill>
        <p:spPr>
          <a:xfrm>
            <a:off x="-662040" y="-214200"/>
            <a:ext cx="1046808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Перечень наименований деталей, входящих в из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чертежу изделия определяем количество деталей, входящих в сборку, и присваиваем названия каждой 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орпус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ужина – 1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лапан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Шайба уплотнительная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Шток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ычаг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кладка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Штуцер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Ось рычага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Ось ролика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Ролик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Гайка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Шплинт – 4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Штифт – 1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274680"/>
            <a:ext cx="86421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Разбивка изделия на уз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лие «Клапан перепускной» можно разбить на следующие узлы [  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зел 1 «Штуцер в сборе»: Штуцер (8) + Прокладка 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зел 2 «Шток в сборе»: Шток (5) + Шайба уплотнительная (4) + Клапан (3) + Гайка (12) + Штифт (1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зел 3 «Рычаг в сборе»:Рычаг (6)+Ролик (11)+Ось Ролика (10) + Шплинт (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ом, изделие «Клапан перепускной» будет включать следующие узлы и детали: Корпус (1)+ Узел 1 «Штуцер в сборе» + Пружина (2) + Узел 2 «Шток в сборе» +Ось рычага (9) +Узел 3 «Рычаг в сборе» + Шплинт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9" descr=""/>
          <p:cNvPicPr/>
          <p:nvPr/>
        </p:nvPicPr>
        <p:blipFill>
          <a:blip r:embed="rId1"/>
          <a:stretch/>
        </p:blipFill>
        <p:spPr>
          <a:xfrm>
            <a:off x="468360" y="2676600"/>
            <a:ext cx="829764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2"/>
          <p:cNvSpPr/>
          <p:nvPr/>
        </p:nvSpPr>
        <p:spPr>
          <a:xfrm>
            <a:off x="468360" y="260280"/>
            <a:ext cx="8280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Составление структурной схемы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принятой разбивки изделия на узлы разрабатываем структурную схему [ ] в соответствии с рисунком 1. Узлы, которые непосредственно входят в изделие, являются сборочными единицами перв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3"/>
          <p:cNvSpPr/>
          <p:nvPr/>
        </p:nvSpPr>
        <p:spPr>
          <a:xfrm>
            <a:off x="2556000" y="5950080"/>
            <a:ext cx="45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 1 – Структурная схема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технологических схем сбо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структурной схемы изделия первоначально разрабатываем технологические схемы сборки узлов [  ] в соответствии с рисунками 2,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 2 – Технологическая схема сборки узла «Шток в сбор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C:\Users\Сергей\Desktop\Решетников тест\клапан\схема 2 узл.png"/>
          <p:cNvPicPr/>
          <p:nvPr/>
        </p:nvPicPr>
        <p:blipFill>
          <a:blip r:embed="rId1"/>
          <a:srcRect l="0" t="0" r="0" b="16101"/>
          <a:stretch/>
        </p:blipFill>
        <p:spPr>
          <a:xfrm>
            <a:off x="1403280" y="2349360"/>
            <a:ext cx="6624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2" descr="C:\Users\Сергей\Desktop\Решетников тест\клапан\схема 3 уз.png"/>
          <p:cNvPicPr/>
          <p:nvPr/>
        </p:nvPicPr>
        <p:blipFill>
          <a:blip r:embed="rId1"/>
          <a:srcRect l="0" t="0" r="0" b="16335"/>
          <a:stretch/>
        </p:blipFill>
        <p:spPr>
          <a:xfrm>
            <a:off x="395280" y="981000"/>
            <a:ext cx="8229600" cy="3735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684360" y="50846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 3 – Технологическая схема сборки узла «Рычаг в сбо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7:05:29Z</dcterms:created>
  <dc:creator>sekr-dir</dc:creator>
  <dc:description/>
  <dc:language>en-US</dc:language>
  <cp:lastModifiedBy>user-8</cp:lastModifiedBy>
  <cp:lastPrinted>2015-09-04T08:04:37Z</cp:lastPrinted>
  <dcterms:modified xsi:type="dcterms:W3CDTF">2022-09-09T08:44:57Z</dcterms:modified>
  <cp:revision>288</cp:revision>
  <dc:subject/>
  <dc:title>Фотоальбом</dc:title>
</cp:coreProperties>
</file>