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69E-E09A-4AED-9272-8D0CAAC0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6AD-C49A-475F-A416-FD9452FA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874-017B-4472-B8D3-4AA5C358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2B2-7C3D-45DA-ADF3-82C08DA4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835-BC65-4E8C-9DF4-C0B3DB16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5C1-0402-417F-8E95-ED4363DA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2D4-F963-4A60-BC12-2503ED7D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8D8-FBFE-455E-8175-D27E9819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609-0966-468E-B0C6-E097DB98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0F9-F918-4695-A129-73393772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35E-3B7D-4A7E-8511-08963D3A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473-B63C-461A-8968-2A9806AF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2FD8-F56F-40FA-8E93-6E905158A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ЕНИЕ КОНТРОЛЬНОЙ РАБОТЫ (К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АЯ ПАМЯ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-й лист «ПЛА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1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источник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й лист 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-лист «Основная ча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4T15:53:14Z</dcterms:created>
  <dc:creator>Николай</dc:creator>
  <dc:description/>
  <dc:language>en-US</dc:language>
  <cp:lastModifiedBy>USER</cp:lastModifiedBy>
  <dcterms:modified xsi:type="dcterms:W3CDTF">2021-10-05T05:50:48Z</dcterms:modified>
  <cp:revision>5</cp:revision>
  <dc:subject/>
  <dc:title>ВЫПОЛНЕНИЕ КОНТРОЛЬНОЙ РАБОТЫ (КР)</dc:title>
</cp:coreProperties>
</file>