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691-FC0F-498A-AAAD-51DC1C61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3DD-D9C5-4E09-B33B-FA8BCD94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2A7-5695-43F7-8077-2B9C6AFF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B43-10E4-4FC8-9DCA-F1AE9F9F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F1F-21AF-4F4C-A384-67F26290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C3B-2F0A-4F55-BE80-53B35912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37B-2C44-4032-9C27-F1D48104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10B-ABE1-4C09-87F2-37F3BAB8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3CE-05E9-45B7-B4D5-AC884FEB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246-FB00-425C-8601-7AED240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2EE-7289-4039-A58B-F755B9F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02D-C21C-413F-89C9-F804658C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0C0C-ED74-41A0-AC7B-41CBBFF61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 информационными рис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4"/>
          <p:cNvGrpSpPr/>
          <p:nvPr/>
        </p:nvGrpSpPr>
        <p:grpSpPr>
          <a:xfrm>
            <a:off x="611280" y="0"/>
            <a:ext cx="6769080" cy="6858000"/>
            <a:chOff x="611280" y="0"/>
            <a:chExt cx="6769080" cy="6858000"/>
          </a:xfrm>
        </p:grpSpPr>
        <p:sp>
          <p:nvSpPr>
            <p:cNvPr id="111" name="AutoShape 5"/>
            <p:cNvSpPr/>
            <p:nvPr/>
          </p:nvSpPr>
          <p:spPr>
            <a:xfrm>
              <a:off x="611280" y="0"/>
              <a:ext cx="67690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602080" y="108720"/>
              <a:ext cx="1990800" cy="54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пределение политики информационной безопас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256720" y="108720"/>
              <a:ext cx="1990800" cy="54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окументы, определяющие политику информационной безопас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2602080" y="979560"/>
              <a:ext cx="19908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Установление границ, в которых предполагается поддерживать режим информационной безопас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5256720" y="979560"/>
              <a:ext cx="19908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окументы, в которых определены границы системы (объекта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2602080" y="2068200"/>
              <a:ext cx="1990800" cy="8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ведение оценки рис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5256720" y="2068200"/>
              <a:ext cx="1990800" cy="87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окументы, в которых описаны угрозы безопасности, уязвимости, возможные результаты негативного воздейств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5256720" y="3265560"/>
              <a:ext cx="19908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нтрмеры, структурированные по уровням: административному, процедурному, программно-техническом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2602080" y="3265560"/>
              <a:ext cx="19908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бор контрмер и управление рискам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2602080" y="4572000"/>
              <a:ext cx="199080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бор средств контроля и управления, обеспечивающих режим информационной безопас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602080" y="5769360"/>
              <a:ext cx="19908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ртификация системы управления информационной безопасностью на соответствие стандартам безопас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5256720" y="4572000"/>
              <a:ext cx="1990800" cy="87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мплексная система обеспечения информационной безопасности на всех этапах жизненного цик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5256720" y="5769360"/>
              <a:ext cx="19908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Заключение аудито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876600" y="3265560"/>
              <a:ext cx="159192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22222"/>
                  </a:solidFill>
                  <a:latin typeface="Arial"/>
                </a:rPr>
                <a:t>Формирование подхода организации к управлению риск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876600" y="4572000"/>
              <a:ext cx="172548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22222"/>
                  </a:solidFill>
                  <a:latin typeface="Arial"/>
                </a:rPr>
                <a:t>Выбор средств контроля режима информационной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876600" y="5769360"/>
              <a:ext cx="172548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22222"/>
                  </a:solidFill>
                  <a:latin typeface="Arial"/>
                </a:rPr>
                <a:t>Аудит системы управления информационной безопасность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876600" y="2176920"/>
              <a:ext cx="159120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22222"/>
                  </a:solidFill>
                  <a:latin typeface="Arial"/>
                </a:rPr>
                <a:t>Угроз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22222"/>
                  </a:solidFill>
                  <a:latin typeface="Arial"/>
                </a:rPr>
                <a:t>уязвимост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22222"/>
                  </a:solidFill>
                  <a:latin typeface="Arial"/>
                </a:rPr>
                <a:t>воз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2"/>
            <p:cNvSpPr/>
            <p:nvPr/>
          </p:nvSpPr>
          <p:spPr>
            <a:xfrm>
              <a:off x="4592880" y="326520"/>
              <a:ext cx="6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3"/>
            <p:cNvSpPr/>
            <p:nvPr/>
          </p:nvSpPr>
          <p:spPr>
            <a:xfrm>
              <a:off x="4592880" y="1306080"/>
              <a:ext cx="6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>
              <a:off x="4592880" y="2503440"/>
              <a:ext cx="6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>
              <a:off x="4592880" y="3809880"/>
              <a:ext cx="6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6"/>
            <p:cNvSpPr/>
            <p:nvPr/>
          </p:nvSpPr>
          <p:spPr>
            <a:xfrm>
              <a:off x="4592880" y="5007240"/>
              <a:ext cx="6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592880" y="6313680"/>
              <a:ext cx="66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8"/>
            <p:cNvSpPr/>
            <p:nvPr/>
          </p:nvSpPr>
          <p:spPr>
            <a:xfrm>
              <a:off x="3663720" y="544284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3663720" y="424548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3663720" y="2939040"/>
              <a:ext cx="7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3663720" y="174168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663720" y="653040"/>
              <a:ext cx="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дентификация актив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па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о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дентификация уг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ичины отказов: важнейш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аппаратур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6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 систем связ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 П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ьютерные вирусы и  «черви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азы инфраструкту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грузки систем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я со стороны сотрудник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ийные бедств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угрозы информационной безопас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ьютерные вирус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ушения со стороны сотрудник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а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щения конфиденциальной информ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мышленный шпионаж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керы-дилетан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дели и методы оценки уязвим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мпиричес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ко-эмпир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строение модели поведения потенциального нарушителя для преднамеренных уг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з возможных последствий нарушения режима И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вень тяжести последствий нарушения режима ИБ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ВЫСОК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сшествие оказывает сильное (катастрофичное) воздействие на деятельность организации, что выражается в одном или нескольких проявлениях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большая сумма (должна быть конкретизирована) прямых финансовых потерь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существенный ущерб здоровью персонала (гибель, инвалидность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ли необходимость длительного лечения сотрудника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потеря репутации, приведшая к существенному снижению деловой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ктивности организаци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дезорганизация деятельности на длительный (конкретизируется)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иод времен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3399"/>
                </a:solidFill>
                <a:latin typeface="Arial"/>
              </a:rPr>
              <a:t>СРЕДН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сшествие приводит к заметным негативным результатам, выражающимся в одном или нескольких проявлениях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заметная сумма (должна быть конкретизирована) прямых финансовых потерь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потеря репутации, которая может вызвать уменьшение потока заказов и негативную реакцию деловых партнеров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неприятности со стороны государственных органов, в результате чего снизилась деловая активность компани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cc"/>
                </a:solidFill>
                <a:latin typeface="Arial"/>
              </a:rPr>
              <a:t>НИЗК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шествие сопровождается небольшими негативными последствиями, выражающимися в одном или нескольких проявлени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ольшая сумма (должна быть конкретизирована) прямых финансовых потер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работе некоторых служб либо дезорганизация деятельности на непродолжительный период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обходимость восстановления информационны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ВЗМОЖНОГО УЩЕР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щерб репу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щерб здоро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щерб связанный с разглашением П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е потери от разгла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е потери связанные с восстано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ри связанные с невозможнстью выполнения обязатель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зорганизация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ка р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к  =  Р угрозы х Р уязвимости х Ущер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оценки угро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ные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стические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т факоров, влияющих на уровни угроз и уязвим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траты на ИБ и уровень достигаемой защищен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Untitled-2 copy"/>
          <p:cNvPicPr/>
          <p:nvPr/>
        </p:nvPicPr>
        <p:blipFill>
          <a:blip r:embed="rId1"/>
          <a:stretch/>
        </p:blipFill>
        <p:spPr>
          <a:xfrm>
            <a:off x="1212840" y="1600200"/>
            <a:ext cx="671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и оправданная без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39640" y="1055520"/>
            <a:ext cx="7056360" cy="4749840"/>
            <a:chOff x="539640" y="1055520"/>
            <a:chExt cx="7056360" cy="4749840"/>
          </a:xfrm>
        </p:grpSpPr>
        <p:sp>
          <p:nvSpPr>
            <p:cNvPr id="156" name="Text Box 5"/>
            <p:cNvSpPr/>
            <p:nvPr/>
          </p:nvSpPr>
          <p:spPr>
            <a:xfrm>
              <a:off x="2327400" y="3143880"/>
              <a:ext cx="550080" cy="52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o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539640" y="2901240"/>
              <a:ext cx="41256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тоим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1640160" y="5020920"/>
              <a:ext cx="2201400" cy="52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Уровень защищ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V="1">
              <a:off x="952200" y="2444760"/>
              <a:ext cx="0" cy="26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>
              <a:off x="952200" y="5094720"/>
              <a:ext cx="316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rc 10"/>
            <p:cNvSpPr/>
            <p:nvPr/>
          </p:nvSpPr>
          <p:spPr>
            <a:xfrm flipH="1" flipV="1">
              <a:off x="1260000" y="2371680"/>
              <a:ext cx="2719080" cy="2118600"/>
            </a:xfrm>
            <a:custGeom>
              <a:avLst/>
              <a:gdLst>
                <a:gd name="textAreaLeft" fmla="*/ 0 w 2719080"/>
                <a:gd name="textAreaRight" fmla="*/ 2719080 w 2719080"/>
                <a:gd name="textAreaTop" fmla="*/ -360 h 2118600"/>
                <a:gd name="textAreaBottom" fmla="*/ 2118600 h 2118600"/>
              </a:gdLst>
              <a:ahLst/>
              <a:rect l="textAreaLeft" t="textAreaTop" r="textAreaRight" b="textAreaBottom"/>
              <a:pathLst>
                <a:path fill="none" w="21339" h="21586">
                  <a:moveTo>
                    <a:pt x="774" y="-1"/>
                  </a:moveTo>
                  <a:cubicBezTo>
                    <a:pt x="11111" y="370"/>
                    <a:pt x="19735" y="8018"/>
                    <a:pt x="21338" y="18237"/>
                  </a:cubicBezTo>
                </a:path>
                <a:path stroke="0" w="21339" h="21586">
                  <a:moveTo>
                    <a:pt x="774" y="-1"/>
                  </a:moveTo>
                  <a:cubicBezTo>
                    <a:pt x="11111" y="370"/>
                    <a:pt x="19735" y="8018"/>
                    <a:pt x="21338" y="18237"/>
                  </a:cubicBezTo>
                  <a:lnTo>
                    <a:pt x="0" y="21586"/>
                  </a:lnTo>
                  <a:lnTo>
                    <a:pt x="774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rc 11"/>
            <p:cNvSpPr/>
            <p:nvPr/>
          </p:nvSpPr>
          <p:spPr>
            <a:xfrm flipV="1">
              <a:off x="1365120" y="2416320"/>
              <a:ext cx="2723760" cy="2117880"/>
            </a:xfrm>
            <a:custGeom>
              <a:avLst/>
              <a:gdLst>
                <a:gd name="textAreaLeft" fmla="*/ 0 w 2723760"/>
                <a:gd name="textAreaRight" fmla="*/ 2724120 w 2723760"/>
                <a:gd name="textAreaTop" fmla="*/ -360 h 2117880"/>
                <a:gd name="textAreaBottom" fmla="*/ 2117880 h 2117880"/>
              </a:gdLst>
              <a:ahLst/>
              <a:rect l="textAreaLeft" t="textAreaTop" r="textAreaRight" b="textAreaBottom"/>
              <a:pathLst>
                <a:path fill="none" w="21372" h="21586">
                  <a:moveTo>
                    <a:pt x="774" y="-1"/>
                  </a:moveTo>
                  <a:cubicBezTo>
                    <a:pt x="11194" y="373"/>
                    <a:pt x="19859" y="8137"/>
                    <a:pt x="21371" y="18454"/>
                  </a:cubicBezTo>
                </a:path>
                <a:path stroke="0" w="21372" h="21586">
                  <a:moveTo>
                    <a:pt x="774" y="-1"/>
                  </a:moveTo>
                  <a:cubicBezTo>
                    <a:pt x="11194" y="373"/>
                    <a:pt x="19859" y="8137"/>
                    <a:pt x="21371" y="18454"/>
                  </a:cubicBezTo>
                  <a:lnTo>
                    <a:pt x="0" y="21586"/>
                  </a:lnTo>
                  <a:lnTo>
                    <a:pt x="774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rc 12"/>
            <p:cNvSpPr/>
            <p:nvPr/>
          </p:nvSpPr>
          <p:spPr>
            <a:xfrm flipV="1" rot="2471400">
              <a:off x="1495440" y="1484280"/>
              <a:ext cx="2098440" cy="2119680"/>
            </a:xfrm>
            <a:custGeom>
              <a:avLst/>
              <a:gdLst>
                <a:gd name="textAreaLeft" fmla="*/ 0 w 2098440"/>
                <a:gd name="textAreaRight" fmla="*/ 2098800 w 2098440"/>
                <a:gd name="textAreaTop" fmla="*/ 360 h 2119680"/>
                <a:gd name="textAreaBottom" fmla="*/ 2120400 h 2119680"/>
              </a:gdLst>
              <a:ahLst/>
              <a:rect l="textAreaLeft" t="textAreaTop" r="textAreaRight" b="textAreaBottom"/>
              <a:pathLst>
                <a:path fill="none" w="21600" h="21404">
                  <a:moveTo>
                    <a:pt x="2902" y="-1"/>
                  </a:moveTo>
                  <a:cubicBezTo>
                    <a:pt x="13611" y="1451"/>
                    <a:pt x="21600" y="10596"/>
                    <a:pt x="21600" y="21404"/>
                  </a:cubicBezTo>
                </a:path>
                <a:path stroke="0" w="21600" h="21404">
                  <a:moveTo>
                    <a:pt x="2902" y="-1"/>
                  </a:moveTo>
                  <a:cubicBezTo>
                    <a:pt x="13611" y="1451"/>
                    <a:pt x="21600" y="10596"/>
                    <a:pt x="21600" y="21404"/>
                  </a:cubicBezTo>
                  <a:lnTo>
                    <a:pt x="0" y="21404"/>
                  </a:lnTo>
                  <a:lnTo>
                    <a:pt x="2902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>
              <a:off x="4690440" y="2727720"/>
              <a:ext cx="69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5520600" y="2549880"/>
              <a:ext cx="2075400" cy="71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жидаемая полная стоим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>
              <a:off x="4690440" y="3615840"/>
              <a:ext cx="691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5520600" y="3438000"/>
              <a:ext cx="1798560" cy="53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Ущер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4690440" y="4326120"/>
              <a:ext cx="691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20600" y="4148640"/>
              <a:ext cx="1798560" cy="53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тоимость защ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805320" y="5450040"/>
              <a:ext cx="5257800" cy="35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тоимостные зависимости защиты информац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0"/>
            <p:cNvSpPr/>
            <p:nvPr/>
          </p:nvSpPr>
          <p:spPr>
            <a:xfrm>
              <a:off x="2742480" y="2430360"/>
              <a:ext cx="0" cy="2664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ме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е на сетевом уров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е физической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е безопасности поддерживающей инфра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е безопасности на уровне системного администр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язв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р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анализ р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анализ р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к информационной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р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экономической эффективности затрат на защиту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ладной информационный анализ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ительский индекс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вленная экономическая стоимость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ая экономическая стоимость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портфелем активов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действительных возможностей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жизненного цикла искуственных сис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L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балансированных показателей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ая стоимость владения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о-стоимостной анализ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чественный рынок средств защиты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управления обновл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межсетевого экран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контроля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резервного копирования и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мониторинга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анализа содержимого почтовых 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ства защ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анализа защищ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предотвращения вторжений на уровне серв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контроля деятельности сотрудников в Интер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защиты от с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контроля целос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усиленной аутент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 информационными рискам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стемный процесс идентификации, контроля и уменьшения информационных рисков компании в соответствии с определенными ограничениями российской нормативно-правовой базы в области защиты информации и собственной корпоративной политики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рисками (стандарт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Т Р ИСО/МЭК 27005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EC 17799: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 15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 77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ST 800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СТ Р ИСО/МЭК 27005-201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304920" y="901800"/>
            <a:ext cx="86198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– выбранные методы и средства контроля и управления, позволяют оценить остаточный риск как допустим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е – в зависимости от результата оценки и наличия страхового фон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твращение – отказ от деятельности или условия, вызывающего конкретный ри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нос – разделение бремени потерь или выгод от риска с другой сторо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ки управления рис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 основ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 17799-200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RA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 Software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е вопросники, специальные программы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 использованием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SE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цептуальные понятия безопасности Общих критериев и их взаимо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0" t="0" r="-2131" b="0"/>
          <a:stretch/>
        </p:blipFill>
        <p:spPr>
          <a:xfrm>
            <a:off x="900000" y="1628640"/>
            <a:ext cx="7488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Технология управления риск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2411280" y="260280"/>
            <a:ext cx="5829480" cy="8115480"/>
            <a:chOff x="2411280" y="260280"/>
            <a:chExt cx="5829480" cy="8115480"/>
          </a:xfrm>
        </p:grpSpPr>
        <p:sp>
          <p:nvSpPr>
            <p:cNvPr id="59" name="AutoShape 5"/>
            <p:cNvSpPr/>
            <p:nvPr/>
          </p:nvSpPr>
          <p:spPr>
            <a:xfrm>
              <a:off x="2411280" y="260280"/>
              <a:ext cx="5829480" cy="811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2525400" y="603000"/>
              <a:ext cx="1714680" cy="684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Цели ИС и основные функции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Информационные ресурсы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писание интерфейсов ИС и входящих/исходящих потоков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Персонал, его функции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2525400" y="1402920"/>
              <a:ext cx="1714680" cy="800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Имевшие место инциденты в области ИБ (история)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анные по инцидентам в аналогичных системах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(отечественный и зарубежный опыт)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2525400" y="3117960"/>
              <a:ext cx="1714680" cy="570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окументация, относящаяся к имеющейся и планируемой системе управления информационной технологией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2525400" y="2317320"/>
              <a:ext cx="171468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окументация по предыдущей оценке рисков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Требования в области ИБ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анные по аудиту ИБ данной ИС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"/>
            <p:cNvSpPr/>
            <p:nvPr/>
          </p:nvSpPr>
          <p:spPr>
            <a:xfrm>
              <a:off x="2525400" y="4718160"/>
              <a:ext cx="171468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Возможные последствия нарушения ИБ с позиции основных целей системы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ценка критичности ресурсов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Критичные данные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2525400" y="5518080"/>
              <a:ext cx="1714680" cy="1143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Анализ возможностей реализации угроз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Диапазон возможных воздействий при реализации угрозы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тепень адекватности существующих и планируемых средств управления ИБ существующим угрозам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6297480" y="603000"/>
              <a:ext cx="1828800" cy="799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Границы системы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Функции системы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ритичные элементы И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лассификация данных с позиции ИБ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6297480" y="1517760"/>
              <a:ext cx="1828800" cy="68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лассы угроз для данной И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6297480" y="2317320"/>
              <a:ext cx="1828800" cy="572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писок потенциальных уязвимост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5"/>
            <p:cNvSpPr/>
            <p:nvPr/>
          </p:nvSpPr>
          <p:spPr>
            <a:xfrm>
              <a:off x="6297480" y="3003120"/>
              <a:ext cx="1828800" cy="800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писание системы управления информационной системой (имеющейся и планируемой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6"/>
            <p:cNvSpPr/>
            <p:nvPr/>
          </p:nvSpPr>
          <p:spPr>
            <a:xfrm>
              <a:off x="6297480" y="3917520"/>
              <a:ext cx="1828800" cy="685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нжированные по вероятности классы угроз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7"/>
            <p:cNvSpPr/>
            <p:nvPr/>
          </p:nvSpPr>
          <p:spPr>
            <a:xfrm>
              <a:off x="6297480" y="4718160"/>
              <a:ext cx="1828800" cy="684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нжированные по степени опасности последствия нарушения режима И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8"/>
            <p:cNvSpPr/>
            <p:nvPr/>
          </p:nvSpPr>
          <p:spPr>
            <a:xfrm>
              <a:off x="6297480" y="5518080"/>
              <a:ext cx="1828800" cy="1142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нжированный список рис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9"/>
            <p:cNvSpPr/>
            <p:nvPr/>
          </p:nvSpPr>
          <p:spPr>
            <a:xfrm>
              <a:off x="4468320" y="603000"/>
              <a:ext cx="1598040" cy="571320"/>
            </a:xfrm>
            <a:prstGeom prst="rect">
              <a:avLst/>
            </a:prstGeom>
            <a:solidFill>
              <a:srgbClr val="00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Описание систе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0"/>
            <p:cNvSpPr/>
            <p:nvPr/>
          </p:nvSpPr>
          <p:spPr>
            <a:xfrm>
              <a:off x="4468320" y="1402920"/>
              <a:ext cx="1596600" cy="573120"/>
            </a:xfrm>
            <a:prstGeom prst="rect">
              <a:avLst/>
            </a:prstGeom>
            <a:solidFill>
              <a:srgbClr val="00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2. Идентификация угро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1"/>
            <p:cNvSpPr/>
            <p:nvPr/>
          </p:nvSpPr>
          <p:spPr>
            <a:xfrm>
              <a:off x="4468320" y="2317320"/>
              <a:ext cx="1597320" cy="569880"/>
            </a:xfrm>
            <a:prstGeom prst="rect">
              <a:avLst/>
            </a:prstGeom>
            <a:solidFill>
              <a:srgbClr val="00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3. Идентификация уязвимост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4468320" y="3117960"/>
              <a:ext cx="1597320" cy="570600"/>
            </a:xfrm>
            <a:prstGeom prst="rect">
              <a:avLst/>
            </a:prstGeom>
            <a:solidFill>
              <a:srgbClr val="00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4. Анализ системы управления И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3"/>
            <p:cNvSpPr/>
            <p:nvPr/>
          </p:nvSpPr>
          <p:spPr>
            <a:xfrm>
              <a:off x="4468320" y="3917520"/>
              <a:ext cx="1597320" cy="573120"/>
            </a:xfrm>
            <a:prstGeom prst="rect">
              <a:avLst/>
            </a:prstGeom>
            <a:solidFill>
              <a:srgbClr val="00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5. Оценка параметров угро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4468320" y="4832280"/>
              <a:ext cx="1597320" cy="570600"/>
            </a:xfrm>
            <a:prstGeom prst="rect">
              <a:avLst/>
            </a:prstGeom>
            <a:solidFill>
              <a:srgbClr val="00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6. Анализ возможных последствий нарушения режима И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5"/>
            <p:cNvSpPr/>
            <p:nvPr/>
          </p:nvSpPr>
          <p:spPr>
            <a:xfrm>
              <a:off x="4468320" y="5745960"/>
              <a:ext cx="1596600" cy="571320"/>
            </a:xfrm>
            <a:prstGeom prst="rect">
              <a:avLst/>
            </a:prstGeom>
            <a:solidFill>
              <a:srgbClr val="00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7. Определение рис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6"/>
            <p:cNvSpPr/>
            <p:nvPr/>
          </p:nvSpPr>
          <p:spPr>
            <a:xfrm>
              <a:off x="4468320" y="6775560"/>
              <a:ext cx="1597320" cy="570600"/>
            </a:xfrm>
            <a:prstGeom prst="rect">
              <a:avLst/>
            </a:prstGeom>
            <a:solidFill>
              <a:srgbClr val="00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8. Выработка рекомендаций по управлению рискам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7"/>
            <p:cNvSpPr/>
            <p:nvPr/>
          </p:nvSpPr>
          <p:spPr>
            <a:xfrm>
              <a:off x="4468320" y="7689240"/>
              <a:ext cx="1597320" cy="571680"/>
            </a:xfrm>
            <a:prstGeom prst="rect">
              <a:avLst/>
            </a:prstGeom>
            <a:solidFill>
              <a:srgbClr val="00ff99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9. Разработка отчетных документ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8"/>
            <p:cNvSpPr/>
            <p:nvPr/>
          </p:nvSpPr>
          <p:spPr>
            <a:xfrm>
              <a:off x="2525400" y="3803760"/>
              <a:ext cx="1714680" cy="79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одель нарушителя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Цены потерь (при различных сценариях реализации угроз)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Оценка уязвимостей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Существующая система управления рисками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9"/>
            <p:cNvSpPr/>
            <p:nvPr/>
          </p:nvSpPr>
          <p:spPr>
            <a:xfrm>
              <a:off x="6297480" y="7689240"/>
              <a:ext cx="1828800" cy="5716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тчетные докумен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0"/>
            <p:cNvSpPr/>
            <p:nvPr/>
          </p:nvSpPr>
          <p:spPr>
            <a:xfrm>
              <a:off x="6297480" y="6775560"/>
              <a:ext cx="1829520" cy="571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екомендации по управлению рискам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>
              <a:off x="4240080" y="717120"/>
              <a:ext cx="228240" cy="342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32"/>
            <p:cNvSpPr/>
            <p:nvPr/>
          </p:nvSpPr>
          <p:spPr>
            <a:xfrm>
              <a:off x="4240080" y="1517760"/>
              <a:ext cx="227160" cy="340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3"/>
            <p:cNvSpPr/>
            <p:nvPr/>
          </p:nvSpPr>
          <p:spPr>
            <a:xfrm>
              <a:off x="4240080" y="2432160"/>
              <a:ext cx="227160" cy="341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4"/>
            <p:cNvSpPr/>
            <p:nvPr/>
          </p:nvSpPr>
          <p:spPr>
            <a:xfrm>
              <a:off x="4240080" y="5860800"/>
              <a:ext cx="227160" cy="341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35"/>
            <p:cNvSpPr/>
            <p:nvPr/>
          </p:nvSpPr>
          <p:spPr>
            <a:xfrm>
              <a:off x="4240080" y="4946400"/>
              <a:ext cx="227160" cy="34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36"/>
            <p:cNvSpPr/>
            <p:nvPr/>
          </p:nvSpPr>
          <p:spPr>
            <a:xfrm>
              <a:off x="4240080" y="4031640"/>
              <a:ext cx="227160" cy="34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37"/>
            <p:cNvSpPr/>
            <p:nvPr/>
          </p:nvSpPr>
          <p:spPr>
            <a:xfrm>
              <a:off x="4240080" y="3232080"/>
              <a:ext cx="227160" cy="34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8"/>
            <p:cNvSpPr/>
            <p:nvPr/>
          </p:nvSpPr>
          <p:spPr>
            <a:xfrm>
              <a:off x="6069240" y="717120"/>
              <a:ext cx="227160" cy="342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9"/>
            <p:cNvSpPr/>
            <p:nvPr/>
          </p:nvSpPr>
          <p:spPr>
            <a:xfrm>
              <a:off x="6069240" y="1517760"/>
              <a:ext cx="227160" cy="340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40"/>
            <p:cNvSpPr/>
            <p:nvPr/>
          </p:nvSpPr>
          <p:spPr>
            <a:xfrm>
              <a:off x="6069240" y="2432160"/>
              <a:ext cx="226440" cy="34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1"/>
            <p:cNvSpPr/>
            <p:nvPr/>
          </p:nvSpPr>
          <p:spPr>
            <a:xfrm>
              <a:off x="6069240" y="3232080"/>
              <a:ext cx="226440" cy="340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42"/>
            <p:cNvSpPr/>
            <p:nvPr/>
          </p:nvSpPr>
          <p:spPr>
            <a:xfrm>
              <a:off x="6069240" y="4031640"/>
              <a:ext cx="226440" cy="34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43"/>
            <p:cNvSpPr/>
            <p:nvPr/>
          </p:nvSpPr>
          <p:spPr>
            <a:xfrm>
              <a:off x="6069240" y="4946400"/>
              <a:ext cx="226440" cy="34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44"/>
            <p:cNvSpPr/>
            <p:nvPr/>
          </p:nvSpPr>
          <p:spPr>
            <a:xfrm>
              <a:off x="6069240" y="5860800"/>
              <a:ext cx="226440" cy="34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45"/>
            <p:cNvSpPr/>
            <p:nvPr/>
          </p:nvSpPr>
          <p:spPr>
            <a:xfrm>
              <a:off x="6069240" y="6889680"/>
              <a:ext cx="226440" cy="34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46"/>
            <p:cNvSpPr/>
            <p:nvPr/>
          </p:nvSpPr>
          <p:spPr>
            <a:xfrm>
              <a:off x="6069240" y="7804080"/>
              <a:ext cx="226440" cy="340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47"/>
            <p:cNvSpPr/>
            <p:nvPr/>
          </p:nvSpPr>
          <p:spPr>
            <a:xfrm>
              <a:off x="5268600" y="1174680"/>
              <a:ext cx="0" cy="22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8"/>
            <p:cNvSpPr/>
            <p:nvPr/>
          </p:nvSpPr>
          <p:spPr>
            <a:xfrm flipH="1">
              <a:off x="5268600" y="1974600"/>
              <a:ext cx="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9"/>
            <p:cNvSpPr/>
            <p:nvPr/>
          </p:nvSpPr>
          <p:spPr>
            <a:xfrm flipH="1">
              <a:off x="5268600" y="2889000"/>
              <a:ext cx="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0"/>
            <p:cNvSpPr/>
            <p:nvPr/>
          </p:nvSpPr>
          <p:spPr>
            <a:xfrm flipH="1">
              <a:off x="5268600" y="3688920"/>
              <a:ext cx="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51"/>
            <p:cNvSpPr/>
            <p:nvPr/>
          </p:nvSpPr>
          <p:spPr>
            <a:xfrm flipH="1">
              <a:off x="5268600" y="4489560"/>
              <a:ext cx="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2"/>
            <p:cNvSpPr/>
            <p:nvPr/>
          </p:nvSpPr>
          <p:spPr>
            <a:xfrm flipH="1">
              <a:off x="5268600" y="5403960"/>
              <a:ext cx="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53"/>
            <p:cNvSpPr/>
            <p:nvPr/>
          </p:nvSpPr>
          <p:spPr>
            <a:xfrm flipH="1">
              <a:off x="5268600" y="6317640"/>
              <a:ext cx="72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54"/>
            <p:cNvSpPr/>
            <p:nvPr/>
          </p:nvSpPr>
          <p:spPr>
            <a:xfrm flipH="1">
              <a:off x="5268600" y="7347240"/>
              <a:ext cx="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55"/>
            <p:cNvSpPr/>
            <p:nvPr/>
          </p:nvSpPr>
          <p:spPr>
            <a:xfrm>
              <a:off x="2525400" y="260280"/>
              <a:ext cx="17146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Исходная информац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06:41:03Z</dcterms:created>
  <dc:creator>Lychkina</dc:creator>
  <dc:description/>
  <dc:language>en-US</dc:language>
  <cp:lastModifiedBy>Преподаватель</cp:lastModifiedBy>
  <dcterms:modified xsi:type="dcterms:W3CDTF">2024-02-28T10:32:06Z</dcterms:modified>
  <cp:revision>18</cp:revision>
  <dc:subject/>
  <dc:title>Управление информационными рисками</dc:title>
</cp:coreProperties>
</file>