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C2F1-0DF3-4649-8914-E03EA22A5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E954-01AE-4D1B-A84A-C16B0FC91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C7EC-A65B-4698-A94A-F10E8F530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FA27-C3A6-4576-8AFB-7294AD2EC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A519-4E6E-45DE-AFF5-F28B2744FA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FC18-9580-4675-A5EF-D79A1CD051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FF77-D037-488F-986A-7BD32FEA69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03F5-1C50-46D1-BD7D-B64805F499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BB3F-B3F4-403D-9C68-8910B22A85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E280-C40C-4263-8C92-17F198D335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0C59-5248-4890-B804-179219A38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E987-E156-467D-A6BB-3613D049E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A072-09E1-4005-9D9A-8C7955C425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8152-6C9D-4D99-A058-C440704649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6E33-4C92-4073-ADFF-D404CD904B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9990-FD7B-48D1-B83C-0725C869CA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969E-7E69-405C-B170-BDB2593773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6EF-8C24-473A-9D58-20568CF9B4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96E-FFBB-427B-8EE0-5A4C53D190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0EE-CC50-4C06-A5DD-E7252335CE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CAA-FFF2-42DA-9AED-8914B67532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346-8A22-40AF-BB41-4E78288A6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7D54-8B26-4D67-871D-6F97762609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AFB-E0A8-47D6-92D2-081D04B30E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D9E-1575-4EF6-B0AC-867E65BA38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C41-07D4-49B3-962D-4FE30D757A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D11-CEAB-4EB8-B5C0-14CAA487A4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109-3A0A-4521-AF78-615C8CC38B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01B-8BC5-4F47-BE23-3C137772EE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1E6-776C-4467-9657-DD518E8DC0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3505-5AAC-4427-AF56-0993D3BC63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CF3F-F742-4A78-BF34-819943681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5FF8-997F-4484-9CC0-4C719EA43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373F-8A1E-454E-95FD-5E846A53D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C9E0-A43D-43EC-9D71-8C58BDB3A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48B8-F105-4722-A131-E2125DCB0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534-BB26-4619-A86E-872485AAF5CA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92360" y="1052280"/>
            <a:ext cx="518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71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e271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B902-056E-4D5D-9A8D-3E7FE40323DE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914400" indent="92160" algn="ctr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371600" indent="42840" algn="ctr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26560" y="6365520"/>
            <a:ext cx="838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ADA6-0776-4365-B4A0-1056E70EFBB5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42920" y="2295360"/>
            <a:ext cx="6202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569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n-US" sz="4000" spc="-1" strike="noStrike">
                <a:solidFill>
                  <a:srgbClr val="e27100"/>
                </a:solidFill>
                <a:latin typeface="Arial"/>
              </a:rPr>
              <a:t>Понятие и задачи информационного менеджмента</a:t>
            </a:r>
            <a:endParaRPr b="0" lang="en-US" sz="4000" spc="-1" strike="noStrike">
              <a:solidFill>
                <a:srgbClr val="e27100"/>
              </a:solidFill>
              <a:latin typeface="Arial"/>
            </a:endParaRPr>
          </a:p>
        </p:txBody>
      </p:sp>
      <p:pic>
        <p:nvPicPr>
          <p:cNvPr id="155" name="Picture 3" descr="Сибгути  Инфо"/>
          <p:cNvPicPr/>
          <p:nvPr/>
        </p:nvPicPr>
        <p:blipFill>
          <a:blip r:embed="rId2"/>
          <a:srcRect l="0" t="0" r="0" b="22309"/>
          <a:stretch/>
        </p:blipFill>
        <p:spPr>
          <a:xfrm>
            <a:off x="3589200" y="19080"/>
            <a:ext cx="1774800" cy="175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65B0-CCEE-4BCB-9F9E-A4E154EE44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2c84"/>
                </a:solidFill>
                <a:latin typeface="Arial"/>
              </a:rPr>
              <a:t>Задачи информационного менеджмента:</a:t>
            </a:r>
            <a:endParaRPr b="0" lang="en-US" sz="3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формирование технологической среды ИС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развитие ИС и обеспечение ее обслуживания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планирование в среде ИС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формирование организационной структуры в области информатизации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использование и эксплуатация ИС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формирование инновационной политики и осуществление инновационных программ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управление персоналом в сфере информатизации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управление капиталовложениями в сфере информатизации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формирование и обеспечение комплексной защищенности информационных ресурсов.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397F-43F3-4F3F-9983-BB0EF47D4F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147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c2c84"/>
                </a:solidFill>
                <a:latin typeface="Arial"/>
              </a:rPr>
              <a:t>Информация играет в обществе все более важную роль. Ее ставят в один ряд с фундаментальными понятиями мироздания: веществом и энергией. Упорядоченную, доступную и активно используемую информацию оценивают как ресурс наряду с материальными, энергетическими, финансовыми и интеллектуальными ресурсами. Эффективное управление информационными ресурсами становится специфической проблемой менеджмента.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4BD3-A407-4352-819E-628AEB0589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2c84"/>
                </a:solidFill>
                <a:latin typeface="Times New Roman"/>
                <a:ea typeface="Times New Roman"/>
              </a:rPr>
              <a:t>Специалист по информационным технологиям должен разбираться в следующих вопросах:</a:t>
            </a:r>
            <a:r>
              <a:rPr b="0" lang="en-US" sz="3200" spc="-1" strike="noStrike">
                <a:solidFill>
                  <a:srgbClr val="2c2c8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447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как осуществляется кратко-, средне- и долгосрочное планирование информационных систем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какие особенности имеет область обработки информации и как формируется ее организационная структура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что такое производственный менеджмент в сфере обработки информации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что такое инновационный менеджмент и какие особенности имеет управление проектами в области обработки информации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как эффективно использовать кадровый потенциал и какие особенности имеет управление персоналом в сфере информатизации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что такое финансовый менеджмент и на что тратятся средства в информационных системах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как и чем обеспечивается правовая защищенность информационных ресурсов.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D6A7-02AC-4D55-AC81-CA949B14E2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2c84"/>
                </a:solidFill>
                <a:latin typeface="Arial"/>
              </a:rPr>
              <a:t>Понятие информационного менеджмента</a:t>
            </a:r>
            <a:endParaRPr b="0" lang="en-US" sz="3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000" y="162864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2c84"/>
                </a:solidFill>
                <a:latin typeface="Arial"/>
              </a:rPr>
              <a:t>Под ИМ понимается специальная область менеджмента, выделившаяся как самостоятельное направление в последние годы и все более приобретающая специфические особенности Информационный менеджмент охватывает все аспекты проблемы менеджмента в сфере создания и использования информационных ресурсов.</a:t>
            </a:r>
            <a:endParaRPr b="0" lang="en-US" sz="25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1A78-055A-452C-9BDF-C07E865DBE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c2c84"/>
                </a:solidFill>
                <a:uFillTx/>
                <a:latin typeface="Arial"/>
              </a:rPr>
              <a:t>Цель информационного менеджмента:</a:t>
            </a:r>
            <a:r>
              <a:rPr b="0" lang="en-US" sz="28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повышение эффективности деятельности предприятия на основе использования информационных систем (ИС) и технологий (ИТ).</a:t>
            </a:r>
            <a:br>
              <a:rPr sz="2000"/>
            </a:br>
            <a:br>
              <a:rPr sz="2800"/>
            </a:br>
            <a:r>
              <a:rPr b="0" lang="en-US" sz="2800" spc="-1" strike="noStrike" u="sng">
                <a:solidFill>
                  <a:srgbClr val="2c2c84"/>
                </a:solidFill>
                <a:uFillTx/>
                <a:latin typeface="Arial"/>
              </a:rPr>
              <a:t>Предмет информационного менеджмента: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процессы создания, эксплуатации и развития ИС предприят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D3CE-69B6-42F9-88ED-95A402749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Arial"/>
              </a:rPr>
              <a:t>Область профессиональной деятельности менеджера – 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2c84"/>
                </a:solidFill>
                <a:latin typeface="Arial"/>
              </a:rPr>
              <a:t>обеспечение эффективного управления информационными ресурсами и информационными системами на уровне организации, </a:t>
            </a:r>
            <a:endParaRPr b="0" lang="en-US" sz="21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2c84"/>
                </a:solidFill>
                <a:latin typeface="Arial"/>
              </a:rPr>
              <a:t>обеспечение использования информации как стратегического ресурса,</a:t>
            </a:r>
            <a:endParaRPr b="0" lang="en-US" sz="21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2c84"/>
                </a:solidFill>
                <a:latin typeface="Arial"/>
              </a:rPr>
              <a:t>организация систем управления в отрасли информационного бизнеса,</a:t>
            </a:r>
            <a:endParaRPr b="0" lang="en-US" sz="21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2c84"/>
                </a:solidFill>
                <a:latin typeface="Arial"/>
              </a:rPr>
              <a:t>совершенствование управления в соответствии с тенденция-ми социально-экономического развития.</a:t>
            </a:r>
            <a:endParaRPr b="0" lang="en-US" sz="21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2A3A-3F33-4B1C-B461-A484F512F2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85520" y="1572840"/>
            <a:ext cx="746748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Сферу информационного менеджмента составляет совокупность всех задач управления, связанных с формированием и использованием информации во всех ее формах и состояниях для достижения поставленных перед предприятием целей.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6244-FED0-4A6A-9DC7-E521DEAF9C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Arial"/>
              </a:rPr>
              <a:t>Основные направления информационного менеджмента: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40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управление информационной системой (ИС) на всех этапах ее жизненного цикла;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стратегическое развитие ИС;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маркетинг ИС.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BA18-0223-4E48-867A-C55FBBF9EE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Arial"/>
              </a:rPr>
              <a:t>Информационный менеджмент в организации выполняет: 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99680" y="26431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Стратегические задачи,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оперативные задачи,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административные задачи.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20D9-624C-48C8-93CB-B2051F0E1C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8:25:44Z</dcterms:created>
  <dc:creator>www.MRMARKER.ru</dc:creator>
  <dc:description/>
  <dc:language>en-US</dc:language>
  <cp:lastModifiedBy>LEXUS</cp:lastModifiedBy>
  <dcterms:modified xsi:type="dcterms:W3CDTF">2018-09-09T12:54:15Z</dcterms:modified>
  <cp:revision>5</cp:revision>
  <dc:subject/>
  <dc:title>Понятие и задачи информационного менеджмента</dc:title>
</cp:coreProperties>
</file>