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106-3EB5-40BE-A6E5-63F61A67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33C-81C5-4C46-97A8-E47878BE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9EE-BBB5-439C-BA04-B32DFDA4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C47-3D6C-45FF-8A8B-37D124A1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AA70-DFE7-42AA-ABF2-057D115F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3216-B841-4F59-81F6-BAAE197F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8B3C-BD66-49BE-B5B7-1B8DD875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CE3F-1A33-498A-ADBC-111478BB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1A02-FA59-481A-9C30-3C2758DB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3762-3159-4C3F-93DC-1A870ED5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D1CF-E777-40E2-A870-E8EB3B50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360-E9A3-4DE0-B326-801B11EE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C5FF-B90E-4F77-9146-ADFCE3DE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0F69-F675-48D3-A10C-65D2511F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A853-D5BF-43D1-84A6-21CCAF2D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A271-8EDA-4A9E-BF36-B5185894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B4C6-650B-4E51-A050-9E6D1E2E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7385-B6B2-41C8-A13F-CC04A14D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75F1-7B27-47C7-9894-BFA290BA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84E8-341B-4D3D-83E5-7D188C38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80AC-671D-43F4-86A1-66B58085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D1F7-199A-409B-84F0-2458210B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2C1-1F4A-4987-AD08-DCE12189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EDD9-EE16-4B42-A95B-D77F0EA0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E3E4-9575-4CCF-AA05-353AD1A9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80F5-559A-435B-8848-ED62F0D3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B364-C158-4419-9630-C1FA9804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2705-568B-4C0B-A7BA-BBC08A1E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558A5-0C37-4218-9BFE-868DDCBC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E4AFD-E1E6-4376-893B-66B50263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C1613-013F-46C4-A810-926CFDEA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899CD-89F4-4B5F-B6CF-20F04670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B7BD9-93DE-4FFF-8DC4-570B3798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D67-A8AF-46DA-BCFE-3B58EE22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224CC-4E39-4FE5-9F23-DC63EF23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E3841-EC53-4AF4-9297-DCB3AC8F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CCA9A-CF75-476A-980D-0528763F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302E6-8988-48D5-ADA1-F911C7EC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85C9-8E27-435D-9D8E-DB65674D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BD7F-E262-42E0-A9F0-660F02F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78D95-28F6-4AF6-9579-47B7BEAC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90936-32A7-4F30-B36F-D284CC6D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0ACB-6EAF-41C7-8332-225F48A9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7E016-0202-47A0-AE70-23783D64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F55-713E-4663-8D6A-F9A7AB86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C4AA9-964A-49C6-AD68-A1A6D518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92BA1-E94E-4558-AD61-4573EBBB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6AB50-D4BE-488B-A673-B567C728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C026F-02E7-4318-AFD6-4250EC47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6B676-53D4-490A-8B24-699CFF0D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54222-B5E1-41C4-A571-EA107F3F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CB210-D18B-4777-9FF6-3A9700CD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0667E-3E55-4724-9D22-C840BB02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E865D-BEF0-4B3F-86A8-C14109A3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B9A2A-DFFE-4F2F-83F3-E9CC5748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A8D0-62F6-4672-8DA2-AF08A22E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49C87-223D-406D-BC01-C1F1A7EF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5FFC6-D413-4C85-BE41-8E88FE3A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BC2F9-DD78-403E-80AE-50B78400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9143A-0ED8-44F9-86FE-DCD66A92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06AEC-C1E6-47A5-B746-C158DD0C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794D8-172C-4C97-A9A4-04B01D84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D52E0-7F64-4CA4-87D6-A106E75F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04E6C-5BA1-4422-90EC-1D76D4B7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60F2B-0470-4ABF-BF85-D41588E4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053B6-B44C-4CFD-8E5D-DD031C89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8AA-A667-4C7B-B5B1-E619D0E6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7F568-4CDF-4724-B333-633AB796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C33AC-C2BD-4261-9BE1-CE24CE7F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0A84C-1CC9-4F46-B319-E70386D1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C59CB-1A7F-4880-A7E1-1C1032F6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FCE5A-80ED-4772-936A-1521D548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67C8A-9DB9-4760-BC21-47D7BF5B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90731-EA7E-4F84-89CB-B80866E7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E6668-DA2F-4392-A0B0-6D789692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D7CA1-6EF8-4805-A0C6-4128C504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7D245-42F3-4CBC-96C7-E742ED89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7C3-44A9-4F8F-9664-7EFA6387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9B6E4-6C7F-4A93-8CCD-BB45554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08815-2A3C-4246-BC48-A346B0F9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F49FB-4AE0-4B8E-9F5A-6388201C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B67E8-2A1B-411D-8467-93D64F72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A0A56-C52F-4659-AFF8-1A191F37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A00-1D2C-48BA-B76D-18AC5B0A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FAC0-40B1-4B7F-80FE-2756BB8D6509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68D1-B69B-46A8-BD6E-ACB0C7AB947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C7A5-7D00-4D3F-82B8-8C00385ABA7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0CDF-C21F-448E-BF12-93F32D78A04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A9A4-684F-43FD-BE54-2A3BC7CC0CD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34D5-B770-46DD-8FEA-2B7A36AAE6B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74BB-3198-47C0-9E95-95FBF976CE4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71280" y="2565360"/>
            <a:ext cx="7993080" cy="11001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Основные направления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нформационного менеджмент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3" descr="Сибгути  Инфо"/>
          <p:cNvPicPr/>
          <p:nvPr/>
        </p:nvPicPr>
        <p:blipFill>
          <a:blip r:embed="rId2"/>
          <a:srcRect l="0" t="0" r="0" b="22309"/>
          <a:stretch/>
        </p:blipFill>
        <p:spPr>
          <a:xfrm>
            <a:off x="3873600" y="162000"/>
            <a:ext cx="1774800" cy="1754280"/>
          </a:xfrm>
          <a:prstGeom prst="rect">
            <a:avLst/>
          </a:prstGeom>
          <a:ln w="0">
            <a:noFill/>
          </a:ln>
        </p:spPr>
      </p:pic>
      <p:sp>
        <p:nvSpPr>
          <p:cNvPr id="320" name="Заголовок 1"/>
          <p:cNvSpPr/>
          <p:nvPr/>
        </p:nvSpPr>
        <p:spPr>
          <a:xfrm>
            <a:off x="1116000" y="4751280"/>
            <a:ext cx="7920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:  доцент  кафедры  ММБП  СибГУТ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т.н., доц. Полетайкин Алексей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1979640" y="1268280"/>
            <a:ext cx="6452640" cy="4392000"/>
            <a:chOff x="1979640" y="1268280"/>
            <a:chExt cx="6452640" cy="4392000"/>
          </a:xfrm>
        </p:grpSpPr>
        <p:grpSp>
          <p:nvGrpSpPr>
            <p:cNvPr id="362" name="Group 3"/>
            <p:cNvGrpSpPr/>
            <p:nvPr/>
          </p:nvGrpSpPr>
          <p:grpSpPr>
            <a:xfrm>
              <a:off x="1979640" y="1268280"/>
              <a:ext cx="6423480" cy="4392000"/>
              <a:chOff x="1979640" y="1268280"/>
              <a:chExt cx="6423480" cy="4392000"/>
            </a:xfrm>
          </p:grpSpPr>
          <p:grpSp>
            <p:nvGrpSpPr>
              <p:cNvPr id="363" name="Group 4"/>
              <p:cNvGrpSpPr/>
              <p:nvPr/>
            </p:nvGrpSpPr>
            <p:grpSpPr>
              <a:xfrm>
                <a:off x="1998720" y="1409760"/>
                <a:ext cx="5497200" cy="4250160"/>
                <a:chOff x="1998720" y="1409760"/>
                <a:chExt cx="5497200" cy="4250160"/>
              </a:xfrm>
            </p:grpSpPr>
            <p:sp>
              <p:nvSpPr>
                <p:cNvPr id="364" name="Line 5"/>
                <p:cNvSpPr/>
                <p:nvPr/>
              </p:nvSpPr>
              <p:spPr>
                <a:xfrm flipH="1">
                  <a:off x="2962440" y="5659920"/>
                  <a:ext cx="4533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6"/>
                <p:cNvSpPr/>
                <p:nvPr/>
              </p:nvSpPr>
              <p:spPr>
                <a:xfrm>
                  <a:off x="3450600" y="4620240"/>
                  <a:ext cx="3269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Управление предприятием индустрии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информатики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7"/>
                <p:cNvSpPr/>
                <p:nvPr/>
              </p:nvSpPr>
              <p:spPr>
                <a:xfrm>
                  <a:off x="5200200" y="1409760"/>
                  <a:ext cx="2247840" cy="425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8"/>
                <p:cNvSpPr/>
                <p:nvPr/>
              </p:nvSpPr>
              <p:spPr>
                <a:xfrm flipH="1">
                  <a:off x="2952000" y="1409760"/>
                  <a:ext cx="2247840" cy="425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9"/>
                <p:cNvSpPr/>
                <p:nvPr/>
              </p:nvSpPr>
              <p:spPr>
                <a:xfrm>
                  <a:off x="3182400" y="5212440"/>
                  <a:ext cx="406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0"/>
                <p:cNvSpPr/>
                <p:nvPr/>
              </p:nvSpPr>
              <p:spPr>
                <a:xfrm>
                  <a:off x="3462840" y="4653360"/>
                  <a:ext cx="3451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1"/>
                <p:cNvSpPr/>
                <p:nvPr/>
              </p:nvSpPr>
              <p:spPr>
                <a:xfrm>
                  <a:off x="3871800" y="3981960"/>
                  <a:ext cx="2714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2"/>
                <p:cNvSpPr/>
                <p:nvPr/>
              </p:nvSpPr>
              <p:spPr>
                <a:xfrm>
                  <a:off x="4248720" y="3199320"/>
                  <a:ext cx="192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Text Box 13"/>
                <p:cNvSpPr/>
                <p:nvPr/>
              </p:nvSpPr>
              <p:spPr>
                <a:xfrm>
                  <a:off x="4158720" y="2060280"/>
                  <a:ext cx="2017800" cy="109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Системы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информационной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поддержки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управленческих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решений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Text Box 14"/>
                <p:cNvSpPr/>
                <p:nvPr/>
              </p:nvSpPr>
              <p:spPr>
                <a:xfrm>
                  <a:off x="4345920" y="3438000"/>
                  <a:ext cx="18201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Информационные системы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в менеджменте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Text Box 15"/>
                <p:cNvSpPr/>
                <p:nvPr/>
              </p:nvSpPr>
              <p:spPr>
                <a:xfrm>
                  <a:off x="3510360" y="4076640"/>
                  <a:ext cx="34905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Управление информационными системами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предприятия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16"/>
                <p:cNvSpPr/>
                <p:nvPr/>
              </p:nvSpPr>
              <p:spPr>
                <a:xfrm>
                  <a:off x="2934720" y="5300640"/>
                  <a:ext cx="450900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Управление информационными ресурсами страны и мир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17"/>
                <p:cNvSpPr/>
                <p:nvPr/>
              </p:nvSpPr>
              <p:spPr>
                <a:xfrm flipH="1">
                  <a:off x="2459520" y="1409760"/>
                  <a:ext cx="2747880" cy="279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8"/>
                <p:cNvSpPr/>
                <p:nvPr/>
              </p:nvSpPr>
              <p:spPr>
                <a:xfrm flipH="1" flipV="1">
                  <a:off x="2295360" y="3758040"/>
                  <a:ext cx="656280" cy="190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"/>
                <p:cNvSpPr/>
                <p:nvPr/>
              </p:nvSpPr>
              <p:spPr>
                <a:xfrm flipH="1">
                  <a:off x="2746800" y="1409760"/>
                  <a:ext cx="2460960" cy="36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"/>
                <p:cNvSpPr/>
                <p:nvPr/>
              </p:nvSpPr>
              <p:spPr>
                <a:xfrm flipH="1">
                  <a:off x="2624040" y="1409760"/>
                  <a:ext cx="2584080" cy="324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1"/>
                <p:cNvSpPr/>
                <p:nvPr/>
              </p:nvSpPr>
              <p:spPr>
                <a:xfrm flipH="1">
                  <a:off x="2295360" y="1409760"/>
                  <a:ext cx="2912040" cy="234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Text Box 22"/>
                <p:cNvSpPr/>
                <p:nvPr/>
              </p:nvSpPr>
              <p:spPr>
                <a:xfrm>
                  <a:off x="1998720" y="3932280"/>
                  <a:ext cx="359640" cy="3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23"/>
                <p:cNvSpPr/>
                <p:nvPr/>
              </p:nvSpPr>
              <p:spPr>
                <a:xfrm>
                  <a:off x="2214360" y="4436640"/>
                  <a:ext cx="359640" cy="37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b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24"/>
                <p:cNvSpPr/>
                <p:nvPr/>
              </p:nvSpPr>
              <p:spPr>
                <a:xfrm>
                  <a:off x="2286360" y="4796640"/>
                  <a:ext cx="287640" cy="28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…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25"/>
                <p:cNvSpPr/>
                <p:nvPr/>
              </p:nvSpPr>
              <p:spPr>
                <a:xfrm>
                  <a:off x="2430360" y="5300640"/>
                  <a:ext cx="35964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e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26"/>
              <p:cNvSpPr/>
              <p:nvPr/>
            </p:nvSpPr>
            <p:spPr>
              <a:xfrm>
                <a:off x="1979640" y="1268280"/>
                <a:ext cx="1891440" cy="151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феры информационног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неджмента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</a:t>
                </a:r>
                <a:r>
                  <a:rPr b="0" sz="11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)производство, 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b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1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)финансы,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c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1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)информатика (как</a:t>
                </a:r>
                <a:r>
                  <a:rPr b="0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sz="11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сфера экономики)…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Group 27"/>
              <p:cNvGrpSpPr/>
              <p:nvPr/>
            </p:nvGrpSpPr>
            <p:grpSpPr>
              <a:xfrm>
                <a:off x="5165280" y="1384200"/>
                <a:ext cx="3237840" cy="4276080"/>
                <a:chOff x="5165280" y="1384200"/>
                <a:chExt cx="3237840" cy="4276080"/>
              </a:xfrm>
            </p:grpSpPr>
            <p:grpSp>
              <p:nvGrpSpPr>
                <p:cNvPr id="387" name="Group 28"/>
                <p:cNvGrpSpPr/>
                <p:nvPr/>
              </p:nvGrpSpPr>
              <p:grpSpPr>
                <a:xfrm>
                  <a:off x="5165280" y="1384200"/>
                  <a:ext cx="2460600" cy="4276080"/>
                  <a:chOff x="5165280" y="1384200"/>
                  <a:chExt cx="2460600" cy="4276080"/>
                </a:xfrm>
              </p:grpSpPr>
              <p:sp>
                <p:nvSpPr>
                  <p:cNvPr id="388" name="Line 29"/>
                  <p:cNvSpPr/>
                  <p:nvPr/>
                </p:nvSpPr>
                <p:spPr>
                  <a:xfrm flipV="1">
                    <a:off x="5165280" y="1384200"/>
                    <a:ext cx="2362680" cy="2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30"/>
                  <p:cNvSpPr/>
                  <p:nvPr/>
                </p:nvSpPr>
                <p:spPr>
                  <a:xfrm>
                    <a:off x="6589800" y="3961800"/>
                    <a:ext cx="1036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Line 31"/>
                  <p:cNvSpPr/>
                  <p:nvPr/>
                </p:nvSpPr>
                <p:spPr>
                  <a:xfrm>
                    <a:off x="7496280" y="1407240"/>
                    <a:ext cx="0" cy="425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Text Box 32"/>
                <p:cNvSpPr/>
                <p:nvPr/>
              </p:nvSpPr>
              <p:spPr>
                <a:xfrm>
                  <a:off x="7107840" y="1976760"/>
                  <a:ext cx="1295280" cy="40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Информатизация менеджмент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Text Box 33"/>
            <p:cNvSpPr/>
            <p:nvPr/>
          </p:nvSpPr>
          <p:spPr>
            <a:xfrm>
              <a:off x="7137360" y="4073040"/>
              <a:ext cx="1294920" cy="42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енеджмен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информатиз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Rectangle 34"/>
          <p:cNvSpPr/>
          <p:nvPr/>
        </p:nvSpPr>
        <p:spPr>
          <a:xfrm>
            <a:off x="1258920" y="231840"/>
            <a:ext cx="76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Распределение задач информационного менеджмента по уровням управления и сферам экономики показано на рис. 1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5"/>
          <p:cNvSpPr/>
          <p:nvPr/>
        </p:nvSpPr>
        <p:spPr>
          <a:xfrm>
            <a:off x="1042920" y="59929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Рис. 1.2 - Распределение задач информационного менеджмента по уровням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Прямая со стрелкой 38"/>
          <p:cNvCxnSpPr/>
          <p:nvPr/>
        </p:nvCxnSpPr>
        <p:spPr>
          <a:xfrm>
            <a:off x="3492000" y="4292280"/>
            <a:ext cx="35964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6" name="Прямая со стрелкой 40"/>
          <p:cNvCxnSpPr/>
          <p:nvPr/>
        </p:nvCxnSpPr>
        <p:spPr>
          <a:xfrm flipV="1">
            <a:off x="3492000" y="4005000"/>
            <a:ext cx="72360" cy="288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7" name="Прямая со стрелкой 42"/>
          <p:cNvCxnSpPr/>
          <p:nvPr/>
        </p:nvCxnSpPr>
        <p:spPr>
          <a:xfrm>
            <a:off x="3492000" y="4292640"/>
            <a:ext cx="288360" cy="5054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8" name="Прямая со стрелкой 44"/>
          <p:cNvCxnSpPr/>
          <p:nvPr/>
        </p:nvCxnSpPr>
        <p:spPr>
          <a:xfrm>
            <a:off x="3492360" y="4292640"/>
            <a:ext cx="216720" cy="1008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66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orbel"/>
              </a:rPr>
              <a:t>4. Значение и роль информационного менеджмента</a:t>
            </a:r>
            <a:br>
              <a:rPr sz="2400"/>
            </a:br>
            <a:r>
              <a:rPr b="1" lang="en-US" sz="2400" spc="-1" strike="noStrike">
                <a:solidFill>
                  <a:srgbClr val="572314"/>
                </a:solidFill>
                <a:latin typeface="Corbel"/>
              </a:rPr>
              <a:t>в современном обществе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75528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азвитие цивилизованных стран происходит в направлении создания инфор-мационного общества, т. е. общества, в котором большинство работающих занято производством, сбором, хранением, переработкой и использованием информации, прежде всего в ее высшей форме – форме знани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 настоящее время число информационных работников в США составляет около 50 % рабочей силы, число же производственных работников – 20 %, в том числе, работников сельского хозяйства – 5 %. Если объединить в одну группу работников, занятых в информационных технологиях и в сфере обслуживания, то их доля будет около 80 %, Предсказывают, что на ближайшие годы работники этой группы составят приблизительно 90 %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 связи с этим, становится очевидной необходимостью управленческая роль  ИТ-менеджера</a:t>
            </a: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 сфере информатизации, что в значительной мере определяет  темп научно–технического прогресс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личие более мощных и эффективных информационных систем, позволяющих эффективно создавать, накапливать и использовать оперативную и полную инфор-мацию, дает компаниям преимущество перед конкурентами, а невнимание к качеству и эффективности информационных систем ведет к потере позици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 настоящее время информация превратилась в один из важнейших ресурсов предприятия. От качества данного ресурса и эффективности его использования во многом зависит и эффективность, и жизнеспособность предприятия в целом. В этом лежит причина важности роли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информационного менеджмента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в современных условия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599616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orbel"/>
              </a:rPr>
              <a:t>УЧЕБНЫЕ ВОПРОСЫ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11280" y="475920"/>
            <a:ext cx="6408720" cy="27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ts val="2299"/>
              </a:lnSpc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Основные направления информационного менеджмен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ts val="2299"/>
              </a:lnSpc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Задачи информационного менеджмен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ts val="2299"/>
              </a:lnSpc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Значение и роль информационного менеджмента в современном обществ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http://cs9992.userapi.com/u136591984/-6/x_505dc43b.jpg"/>
          <p:cNvPicPr/>
          <p:nvPr/>
        </p:nvPicPr>
        <p:blipFill>
          <a:blip r:embed="rId2"/>
          <a:stretch/>
        </p:blipFill>
        <p:spPr>
          <a:xfrm>
            <a:off x="5616720" y="3497400"/>
            <a:ext cx="352728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93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193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193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193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1042920" y="0"/>
            <a:ext cx="8101080" cy="44370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2920" y="476280"/>
            <a:ext cx="74977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14440" indent="-514440" algn="ctr">
              <a:buClr>
                <a:srgbClr val="572314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Определение информационного менеджмента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26560" y="2491920"/>
            <a:ext cx="80298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онятие «Информационный менеджмент»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трактуется как менедж-мент в любой сфере деятельности на основе использования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форма-ционных систем и технологий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то есть как информатизация менеджмен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формацион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(ИС)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от англ.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formation syste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IS)  - это совокупность информационных технологий, обрабатываемой информа-ции, ее источников и потребител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С состоит из источников информации, функциональной части, обеспечивающих частей, к которым относятся организационное, инфор-мационное, программное и техническое обеспечение, а также конечные пользователи (потребители) информ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 понятием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«информационные технологии»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(ИТ)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от англ. information technology, IT) понимают совокупность средств  и методов сбора, хранения, обработки и выдачи информации в интересах управле-ния организаци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настоящее время под ИТ чаще всего понимают информационно - коммуникационные технологии, основанные на компьютерной обработке информации в сетевом окружен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1403280" y="981000"/>
            <a:ext cx="7291080" cy="504360"/>
            <a:chOff x="1403280" y="981000"/>
            <a:chExt cx="7291080" cy="504360"/>
          </a:xfrm>
        </p:grpSpPr>
        <p:sp>
          <p:nvSpPr>
            <p:cNvPr id="328" name="Text Box 3"/>
            <p:cNvSpPr/>
            <p:nvPr/>
          </p:nvSpPr>
          <p:spPr>
            <a:xfrm>
              <a:off x="6204240" y="1132200"/>
              <a:ext cx="3340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Rectangle 4"/>
            <p:cNvGrpSpPr/>
            <p:nvPr/>
          </p:nvGrpSpPr>
          <p:grpSpPr>
            <a:xfrm>
              <a:off x="1403280" y="981000"/>
              <a:ext cx="2087640" cy="504360"/>
              <a:chOff x="1403280" y="981000"/>
              <a:chExt cx="2087640" cy="504360"/>
            </a:xfrm>
          </p:grpSpPr>
          <p:pic>
            <p:nvPicPr>
              <p:cNvPr id="330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3280" y="981000"/>
                <a:ext cx="2087640" cy="50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"/>
              <p:cNvSpPr/>
              <p:nvPr/>
            </p:nvSpPr>
            <p:spPr>
              <a:xfrm>
                <a:off x="1481760" y="1022040"/>
                <a:ext cx="193428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Информационный менеджмен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Rectangle 5"/>
            <p:cNvGrpSpPr/>
            <p:nvPr/>
          </p:nvGrpSpPr>
          <p:grpSpPr>
            <a:xfrm>
              <a:off x="3873600" y="981000"/>
              <a:ext cx="2267280" cy="504360"/>
              <a:chOff x="3873600" y="981000"/>
              <a:chExt cx="2267280" cy="504360"/>
            </a:xfrm>
          </p:grpSpPr>
          <p:pic>
            <p:nvPicPr>
              <p:cNvPr id="333" name="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873600" y="981000"/>
                <a:ext cx="2267280" cy="50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3948840" y="1022040"/>
                <a:ext cx="211284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Информатизация менеджмент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Rectangle 6"/>
            <p:cNvGrpSpPr/>
            <p:nvPr/>
          </p:nvGrpSpPr>
          <p:grpSpPr>
            <a:xfrm>
              <a:off x="6552720" y="981000"/>
              <a:ext cx="2141640" cy="504360"/>
              <a:chOff x="6552720" y="981000"/>
              <a:chExt cx="2141640" cy="504360"/>
            </a:xfrm>
          </p:grpSpPr>
          <p:pic>
            <p:nvPicPr>
              <p:cNvPr id="336" name="Rectangl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6552720" y="981000"/>
                <a:ext cx="2141640" cy="50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6627240" y="1022040"/>
                <a:ext cx="19915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e4e4e"/>
                    </a:solidFill>
                    <a:latin typeface="Times New Roman"/>
                    <a:ea typeface="Arial"/>
                  </a:rPr>
                  <a:t>Менеджмент информатизаци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Text Box 7"/>
            <p:cNvSpPr/>
            <p:nvPr/>
          </p:nvSpPr>
          <p:spPr>
            <a:xfrm>
              <a:off x="3455640" y="1132200"/>
              <a:ext cx="492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ectangle 8"/>
          <p:cNvSpPr/>
          <p:nvPr/>
        </p:nvSpPr>
        <p:spPr>
          <a:xfrm>
            <a:off x="1187280" y="2620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ожно предложить условную формулу информационного менедж-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1332000" y="1702080"/>
            <a:ext cx="70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 1.1 - Составные компоненты информационного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едж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187280" y="2083320"/>
            <a:ext cx="777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Технология информационного менеджмента содержит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элементы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,            к которым относятся: документная информация, персонал, технические и программные средства обеспечения информационных процессов, а также нормативно установленные процедуры формирования и использования информационных рес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Информация представляет собой важнейший фактор производства, который лежит в основе процесса принятия управленческих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http://img638.imageshack.us/img638/103/wpidpoznawajjezykiipozw.jpg"/>
          <p:cNvPicPr/>
          <p:nvPr/>
        </p:nvPicPr>
        <p:blipFill>
          <a:blip r:embed="rId5"/>
          <a:stretch/>
        </p:blipFill>
        <p:spPr>
          <a:xfrm>
            <a:off x="3851280" y="4365720"/>
            <a:ext cx="2116080" cy="2233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http://www.truckertotrucker.com/wp-content/uploads/2011/02/insurance-paper-300x244.jpg"/>
          <p:cNvPicPr/>
          <p:nvPr/>
        </p:nvPicPr>
        <p:blipFill>
          <a:blip r:embed="rId6"/>
          <a:stretch/>
        </p:blipFill>
        <p:spPr>
          <a:xfrm>
            <a:off x="1258920" y="4365720"/>
            <a:ext cx="2665440" cy="2324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http://soft.cnews.ru/i/art/142/fs_home_in1.jpg"/>
          <p:cNvPicPr/>
          <p:nvPr/>
        </p:nvPicPr>
        <p:blipFill>
          <a:blip r:embed="rId7"/>
          <a:stretch/>
        </p:blipFill>
        <p:spPr>
          <a:xfrm>
            <a:off x="6732720" y="4365720"/>
            <a:ext cx="18000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93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93" fill="hold"/>
                                        <p:tgtEl>
                                          <p:spTgt spid="3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93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93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755640" y="2565360"/>
            <a:ext cx="8105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формационный менеджмент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хватывает все аспекты в сфере соз-дания и использования информационных ресурс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ль информационного менеджмента: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вышение эффективности деятельности предприятия на основе использования информационных систем (ИС) и технологий (ИТ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едмет информационного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: процессы создания, эксплуатации и развития ИС предприят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бласть профессиональной деятельности менеджер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– обеспечение эффективного управления информационными ресурсами и информацион-ными системами на уровне организации, обеспечение использования информации как стратегического ресурса, организация систем управления в отрасли информационного бизнеса, совершенствование управления          в соответствии с тенденциями социально-экономического развит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2" descr="http://s015.radikal.ru/i331/1101/53/4f7d92a5c64d.png"/>
          <p:cNvPicPr/>
          <p:nvPr/>
        </p:nvPicPr>
        <p:blipFill>
          <a:blip r:embed="rId2"/>
          <a:stretch/>
        </p:blipFill>
        <p:spPr>
          <a:xfrm>
            <a:off x="5076720" y="333360"/>
            <a:ext cx="3713400" cy="2016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http://arkanbiz.ru/wp-content/uploads/2012/05/novyie-tehnologii-biznesa.jpg"/>
          <p:cNvPicPr/>
          <p:nvPr/>
        </p:nvPicPr>
        <p:blipFill>
          <a:blip r:embed="rId3"/>
          <a:stretch/>
        </p:blipFill>
        <p:spPr>
          <a:xfrm>
            <a:off x="1258920" y="333360"/>
            <a:ext cx="3717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1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1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1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"/>
          <p:cNvPicPr/>
          <p:nvPr/>
        </p:nvPicPr>
        <p:blipFill>
          <a:blip r:embed="rId2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826560" y="692280"/>
            <a:ext cx="813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бъектами профессиональной деятельности менеджер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являются различные информационные ресурсы и информационные системы органи-заций экономической, производственной и социальной сферы, информа-ционные ресурсы и информационные системы подразделений систем управления государственных предприятий, акционерных обществ и част-ных фирм, а также различные организации в сфере информационного бизнес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фессиональная деятельность менеджера распространяется также на информационные ресурсы и информационные системы научно-произ-водственных объединений, научных, конструкторских и проектных органи-заций, органов государственного управления и социальной инфраструк-туры народного хозяйст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феру информационного менеджмент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ставляет совокупность всех задач управления, связанных с формированием и использованием информации во всех ее формах и состояниях для достижения поставленных перед предприятием цел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 этом должны решаться задачи определения ценности и эффек-тивности использования не только собственно информации (данных и знаний), но и других ресурсов предприятия, в той или иной мере входящих в контакт с информацией: технологических, кадровых, финансовых и т. д.    В этих задачах управления в той или иной мере используются информа-ционные системы и реализованные в них информационные технолог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42560" y="18864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онцепция информационного менеджмента объединяет следую-щие подход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8d01"/>
                </a:solidFill>
                <a:latin typeface="Corbel"/>
              </a:rPr>
              <a:t>экономический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рассматривающий вопросы привлечения новой докумен-тированной информации, исходя из соображений полезности и финансо-вых затрат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8d01"/>
                </a:solidFill>
                <a:latin typeface="Corbel"/>
              </a:rPr>
              <a:t>аналитический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основанный на анализе потребностей пользователей в информации и коммуникациях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8d01"/>
                </a:solidFill>
                <a:latin typeface="Corbel"/>
              </a:rPr>
              <a:t>организационный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рассматривающий информационные технологии в их влиянии на организационные аспект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8d01"/>
                </a:solidFill>
                <a:latin typeface="Corbel"/>
              </a:rPr>
              <a:t>системный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рассматривающий обработку информации на основе целост-ного, системно ориентированного, всеохватывающего процесса обработ-ки информации в организации и уделяющий особое внимание оптимиза-ции коммуникационных каналов, информации, материальных средств и других затрат, методов работ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4" descr="http://static.ddmcdn.com/gif/information-technology-25.jpg"/>
          <p:cNvPicPr/>
          <p:nvPr/>
        </p:nvPicPr>
        <p:blipFill>
          <a:blip r:embed="rId2"/>
          <a:stretch/>
        </p:blipFill>
        <p:spPr>
          <a:xfrm>
            <a:off x="1835280" y="4437000"/>
            <a:ext cx="2946240" cy="22161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http://img-fotki.yandex.ru/get/4704/102772065.4d/0_50757_dc3be45e_XL"/>
          <p:cNvPicPr/>
          <p:nvPr/>
        </p:nvPicPr>
        <p:blipFill>
          <a:blip r:embed="rId3"/>
          <a:stretch/>
        </p:blipFill>
        <p:spPr>
          <a:xfrm>
            <a:off x="5651640" y="4437000"/>
            <a:ext cx="286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http://crq11.org.br/painelcontrole/include/thumbnail.php?gd=2&amp;src=../../imagens/N_image001.jpg&amp;maxw=600px"/>
          <p:cNvPicPr/>
          <p:nvPr/>
        </p:nvPicPr>
        <p:blipFill>
          <a:blip r:embed="rId2"/>
          <a:stretch/>
        </p:blipFill>
        <p:spPr>
          <a:xfrm>
            <a:off x="1116000" y="620640"/>
            <a:ext cx="4154400" cy="3645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Corbel"/>
              </a:rPr>
              <a:t>2. Основные направления информационного менеджмен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3284280"/>
            <a:ext cx="7891560" cy="34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сновные направления информационного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правление информационной системой (ИС) на всех этапах ее жизненного цикл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тратегическое развитие ИС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ркетинг ИС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формационный  менеджмент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 организации выполняе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страте-гически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оперативны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административны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задачи. К числу стратеги-ческих задач относятся: создание информационной инфраструктуры организации и управление информационными технологиями. Оператив-ные и административные задачи относят более узкий и подчиненный характер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http://www.valstietis.lt/var/ezwebin_site/storage/images/rubrikos/lietuvoje/43-proc.-lietuviu-nera-naudojesi-internetu/1039498-1-lit-LT/43-proc.-lietuviu-nera-naudojesi-internetu_img_newsarticle560.jpg"/>
          <p:cNvPicPr/>
          <p:nvPr/>
        </p:nvPicPr>
        <p:blipFill>
          <a:blip r:embed="rId3"/>
          <a:stretch/>
        </p:blipFill>
        <p:spPr>
          <a:xfrm>
            <a:off x="5796000" y="1052640"/>
            <a:ext cx="300528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4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4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4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4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4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http://nalogovoy.net/wp-content/uploads/istock_000004506581medium.jpg"/>
          <p:cNvPicPr/>
          <p:nvPr/>
        </p:nvPicPr>
        <p:blipFill>
          <a:blip r:embed="rId2"/>
          <a:stretch/>
        </p:blipFill>
        <p:spPr>
          <a:xfrm>
            <a:off x="1042920" y="2060640"/>
            <a:ext cx="3313080" cy="4797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7497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Corbel"/>
              </a:rPr>
              <a:t>3. Задачи информационного менеджмен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276720" y="1196640"/>
            <a:ext cx="5688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ерархическая последовательность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последующих задач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нформационного менеджмента включает в себя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нализ информационных потребностей управленческого персонала фирмы в процессе принятия управленческих решений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нализ источников информации для покрытия потреб-ностей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боснование требований к построению информационных систем и организация в них процессов обработки инфор-мации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азработка диалоговых моделей принятия решений (наличие человека в системе обработки информации позволяет отказываться от необходимости формализации ряда этапов решения управленческих задач)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правление системой информационного обслуживания на фирме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правление информационными ресурсами в стране и вне е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1332000" y="836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Главной задачей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информационного менеджмента является информа-ционная поддержка основной деятельности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08:03:37Z</dcterms:created>
  <dc:creator>Попова М.В</dc:creator>
  <dc:description/>
  <dc:language>en-US</dc:language>
  <cp:lastModifiedBy>LEXUS</cp:lastModifiedBy>
  <dcterms:modified xsi:type="dcterms:W3CDTF">2018-09-09T13:20:36Z</dcterms:modified>
  <cp:revision>40</cp:revision>
  <dc:subject/>
  <dc:title>Лекция №1</dc:title>
</cp:coreProperties>
</file>