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5FA-49A4-424E-BCE5-79FFD781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1598-EE66-4333-9067-67239F9C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C51-3881-444C-ADEC-BC90DC1B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C47-E73F-480A-8E1C-DC1BE80B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8CD-7320-4BFE-B455-43A88F12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7FE3-8DF6-4670-A27E-8F44622B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C2C-FBD6-4867-B64F-8AD112C3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279-7309-492E-808C-9F6C70C1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1EEE-8127-4677-B3AF-DE84389C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13D-DB98-43D4-87D0-D6236147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160-7259-4660-A345-6249A5BE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8C21-9E65-42FD-BAC5-09380309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1914-BB64-4D1B-8034-E64CE9FE3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alex.poletaykin@gmail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Сибгути  Инфо"/>
          <p:cNvPicPr/>
          <p:nvPr/>
        </p:nvPicPr>
        <p:blipFill>
          <a:blip r:embed="rId1"/>
          <a:srcRect l="0" t="0" r="0" b="22309"/>
          <a:stretch/>
        </p:blipFill>
        <p:spPr>
          <a:xfrm>
            <a:off x="3873600" y="162000"/>
            <a:ext cx="1774800" cy="1754280"/>
          </a:xfrm>
          <a:prstGeom prst="rect">
            <a:avLst/>
          </a:prstGeom>
          <a:ln w="0">
            <a:noFill/>
          </a:ln>
        </p:spPr>
      </p:pic>
      <p:sp>
        <p:nvSpPr>
          <p:cNvPr id="42" name="Заголовок 1"/>
          <p:cNvSpPr/>
          <p:nvPr/>
        </p:nvSpPr>
        <p:spPr>
          <a:xfrm>
            <a:off x="139680" y="4751280"/>
            <a:ext cx="88567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й:  доцент  кафедры  ММБП  СибГУТ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т.н., доц. Полетайкин Алексей Нико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275076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Роль информации, информационных ресурсов и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T-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услуг на современном этапе развития об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Версии </a:t>
            </a: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IT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6480" y="1484280"/>
            <a:ext cx="85075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ая серия книг - ITIL v2 - появлялась с середины 1990 годов по 2004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первая версия содержала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более 60 книг, то вторая - всего 9, а в третьей -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сновной целью второй верс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ало описание процесса эффективной передачи услуги потребителю и уменьшение разрыва между IT-областью и бизне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иду того, что появилось много новых технологий и принципиальных изменений в IT-области с 2004 году начались работы по версии ITILv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Значение </a:t>
            </a: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IT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настоящее время ITIL представляет собой наиболее известную базу знаний в области Управления услугами во всем мире и отражает фундаментальные основы ведущих мировых практик в IT-обла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Центры сертиф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XIN (Голландский Экзаменационный Институ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SEB (The Information Systems Examination Board - подразделение Британского Компьютерного Общест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4437000"/>
            <a:ext cx="7488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дрением процессов ITIL и обучением занимается целый ряд компаний-консульта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России "передовиками" являются Hewlett-Packard Consulting, "Ай-Теко", IT-Exp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1125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Европе существуют два центра сертификации по ITIL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IL рассматривает Управление услугами в контексте взаимо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"поставщик услуг - заказчик услуг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Заказчик услу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казчик(Customer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покупатель товаров или услу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азчик для поставщика IT-услуг - это человек (группа людей), который заключает соглашения с поставщиком на предоставление IT-услуг и отвечает за то, чтобы предоставленные услуги были оплаче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Поставщик усл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ставщик услуг(Service provider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организация, поставляющая услуги одному или нескольким внутренним или внешним заказчик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Пользователь услу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льзовател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это сотрудник организации, использующий IT-услугу для выполнения повседневной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IT- сервис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тральным и ключевым термином ITIL является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ервис (service)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торый в русскоязычной литературе часто называют услуг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едем определение из Глоссария ITIL v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IT-услуга (сервис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способ предоставления ценности заказчикам через содействие им в получении результатов на выходе, которых заказчики хотят достичь без владения специфическими затратами и рис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IT- сервис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ведем другое определение IT-услу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T-услуга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дна или более техническая или профессиональная возможность, которая делает возможным бизнес-процес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дальнейшем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"IT-услугу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будем называть "услугой", а термины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"услуга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"сервис" считать эквивалентны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Результаты на вых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езультаты на выходе (outcomes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то, что получает заказчик в конечном итог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понимать, что на практике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ни отличаю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 того,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что хоч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лучить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азч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значально, ввиду наличия определенных ограничивающих фак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щая назначение услуг, можно сказать, что они помогают улучшить результаты на выходе путем увеличения производительности и уменьшения существующих огранич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ом применения услуг является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величение вероят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лучения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желаемых результа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выхо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Роль информации, информационных ресурсов и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IT-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услуг на современном этапе развития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3573360"/>
            <a:ext cx="3960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0928"/>
                </a:solidFill>
                <a:latin typeface="Arial"/>
              </a:rPr>
              <a:t>РОСТЕТ!!!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9188000">
            <a:off x="4125600" y="3141720"/>
            <a:ext cx="4859280" cy="720720"/>
          </a:xfrm>
          <a:prstGeom prst="rightArrow">
            <a:avLst>
              <a:gd name="adj1" fmla="val 50000"/>
              <a:gd name="adj2" fmla="val 1685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Характеристики услуги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яет одну и более потребностей заказчи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ивает бизнес-цели заказчи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ринимается заказчиком как единое целое и продукт, готовый к использован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1341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слуга обладает следующими характеристикам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Характеристики услуги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8200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ность услуги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(value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на измеряется в контексте двух понят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олезность услуги (Service Utility)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о, что получает заказчик в результате использования услуг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Гарантия качества услуги(Service Warranty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то, как поставщик предоставляет услугу в терминах доступности, производительности, непрерывности и безопас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981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слуга обладает следующими свойствами(1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Характеристики услуги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34560" y="2276280"/>
            <a:ext cx="820908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олез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функциональность, предлагаемая продуктом или сервисом для обеспечения определённых потребностей. Зачастую определяется как "что делает продукт/сервис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олезность услуг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функциональность IT-услуги с точки зрения заказч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8366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слуга обладает следующими характеристиками (2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Характеристики услуги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96472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Гарант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обещание или гарантия того, что продукт или услуга будет соответствовать согласованным требо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Гарантия качества услуг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веренность в том, что IT-сервис будет соответствовать согласованным требованиям. Может быть в виде формального соглашения, такого как SLA или договор, либо как маркетинговое сообщение или представление торговой мар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8366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слуга обладает следующими свойствами (3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Характеристики услуги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5327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Полезность - то, </a:t>
            </a:r>
            <a:r>
              <a:rPr b="1" lang="en-US" sz="2800" spc="-1" strike="noStrike">
                <a:solidFill>
                  <a:srgbClr val="e50928"/>
                </a:solidFill>
                <a:latin typeface="Arial"/>
              </a:rPr>
              <a:t>чт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заказчик получ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Гарантия качества - то, </a:t>
            </a:r>
            <a:r>
              <a:rPr b="1" lang="en-US" sz="2800" spc="-1" strike="noStrike">
                <a:solidFill>
                  <a:srgbClr val="e50928"/>
                </a:solidFill>
                <a:latin typeface="Arial"/>
              </a:rPr>
              <a:t>ка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он это получа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Схема формирования полезности услу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11280" y="2133720"/>
            <a:ext cx="7848360" cy="3281400"/>
            <a:chOff x="611280" y="2133720"/>
            <a:chExt cx="7848360" cy="328140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rcRect l="17633" t="23705" r="35285" b="40517"/>
            <a:stretch/>
          </p:blipFill>
          <p:spPr>
            <a:xfrm>
              <a:off x="611280" y="2133720"/>
              <a:ext cx="7848360" cy="32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 txBox="1"/>
            <p:nvPr/>
          </p:nvSpPr>
          <p:spPr>
            <a:xfrm>
              <a:off x="611280" y="2133720"/>
              <a:ext cx="7848360" cy="328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езность достигается одним из следующих способ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спечение требуемой заказчиком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оизводитель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ранение или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нижение ограниче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Производи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изводительность (Performance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мера того, что достигнуто или выработано системой, человеком, командой, процессом, или ИТ-услуг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производительностью здесь понимается возможность для заказчика делать больше за более короткое время, с меньшими затратами или с потреблением меньших ресурсов. Другими словами, некая оптимизация, которая позволит заказчику решить задачу за меньшее время и день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Ограни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грани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это запрет или невозможность выполнения каких-то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арантия складывается из четырех основных аспе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ступ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щ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зопас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рерыв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ятно, что измерить гарантию качества услуги проще, чем ее полезность для бизн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Управление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T-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ерви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136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правление IT-услугами (сервисам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овокупность специализированных организационных возможностей для предоставления ценности заказчикам в форме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"специализированными возможностями" понимаются процессы, методы, функции и роли, которые может использовать поставщик для предоставления услуги заказчик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сии предпочитают термин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рвис-менеджм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бозначения управления IT-сервисами используется также аббревиатур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ITSM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(IT Service Manageme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Предпосылки роста </a:t>
            </a: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IT- </a:t>
            </a: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усл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явились персональные компьют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кальные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хнология клиент-серв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информация, средства ее обработки и управления стали основными стратегическими ресурсами любой организации, а достижение бизнес целей стало напрямую зависеть от IT-обла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96720" y="-360"/>
            <a:ext cx="90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Качество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В IT-обла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овокупное качество услуги фактически определяется в процессе ее эксплуатации, и его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ельз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днозначно определить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заране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ачество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овокупность характеристик объекта, относящихся к его способности удовлетворить установленные и предполагаемые потреб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Качество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авщик должен помнить о необходимости обеспечения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остоянного каче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 есть предоставляемая услуга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должна быть стабильной во време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Качество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249192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сновной целью сервис-менеджмен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контексте ITIL является предоставление заказчикам надежных, стабильных IT-услуг, которые полностью удовлетворят их потребности в заданной обл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126360" y="1177920"/>
            <a:ext cx="890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16080" y="4579200"/>
            <a:ext cx="861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озможные конта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лектронная почта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1"/>
              </a:rPr>
              <a:t>alex.poletaykin@gmail.co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kype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логин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olietaiki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Заголовок 1"/>
          <p:cNvSpPr/>
          <p:nvPr/>
        </p:nvSpPr>
        <p:spPr>
          <a:xfrm>
            <a:off x="395280" y="2492280"/>
            <a:ext cx="827388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й:  доцент  кафедры  ММБП  СибГУТ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т.н., доц. Полетайкин Алексей Нико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он философии (рынк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2924280"/>
            <a:ext cx="244944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3357720"/>
            <a:ext cx="2519280" cy="720720"/>
          </a:xfrm>
          <a:prstGeom prst="rightArrow">
            <a:avLst>
              <a:gd name="adj1" fmla="val 50000"/>
              <a:gd name="adj2" fmla="val 8738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852640"/>
            <a:ext cx="2808360" cy="1801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Общие принципы эффективного использования IT-сервисов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80-х годах британское правительство поручило Центральному агентству по вычислительной технике и коммуникациям (CCTA) разработать общие принципы эффективного использования IT-сервисов в Великобрита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Общие принципы эффективного использования IT-сервисов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появился первый документ, объединяющий в себе лучшие практики в управлении IT-услуг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ой его особенностью стала разработка единого подхода, не зависящего от поставщика услу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Общие принципы эффективного использования IT-сервисов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нце 1980-х-начале 1990 вышла серия книг о том, как управлять IT-услугами и о взаимодействии IT-области с пользователями этих услу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библиотека книг и была названа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иблиотекой инфраструктуры информационных технологий или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ITIL(the IT Infrustructure Library)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Библиотека инфраструктуры информационных технологий  - IT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T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едставляет собой набор публикаций, содержащих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рекомендации по предоставлению качественных услу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а также процессов и компонентов, необходимых для их поддерж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ая цель ITIL - продвижение современных знаний и обмен опытом в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ая особенность ITIL - организация Управления услугами в виде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овокупности процес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Форум </a:t>
            </a: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IT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91 году после того, как IT-сообщество заинтересовалось ITIL, был создан форум -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IT Information Management Forum (ITIM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целью стало объединение специалистов IT-области, обмен идеями и опы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льнейшем название сменилось на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IT Service Management Forum (ITSM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йчас этот форум объединяет в себе множество специалистов IT-области, и количество пользователей форума по всему миру растет ежеднев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5T05:42:50Z</dcterms:created>
  <dc:creator>Admin</dc:creator>
  <dc:description/>
  <dc:language>en-US</dc:language>
  <cp:lastModifiedBy>LEXUS</cp:lastModifiedBy>
  <dcterms:modified xsi:type="dcterms:W3CDTF">2018-09-09T13:13:07Z</dcterms:modified>
  <cp:revision>26</cp:revision>
  <dc:subject/>
  <dc:title>Управление IT-сервисами и контентом</dc:title>
</cp:coreProperties>
</file>