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0CFC-C0CF-4711-B4B7-B591E24F3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E9B9-4482-4FED-8E49-CAC1AB8F4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1F77-8A83-4B07-9BF5-411DA6598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55B2-A715-475B-A825-102A59BA8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56AC-9D07-4409-8B9C-3AAE351A0B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BD27A-F7E1-4470-B8ED-DEA8D7860B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6D0D3-9700-4610-88A3-F32D8C1525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374BA-53F4-4A70-8FA0-A4956CFECC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0173-24AD-4919-91B3-A75C2CD488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5462-9E5A-4EC8-99AA-A7ABA256E2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BBB6-CFF0-4D8A-97F3-7953487E93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FE1A-BAF7-4D8C-9822-7860935E5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012A-C231-4430-9E21-836817B1DB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6FDB0-F516-438A-8966-0474700ECB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EF99A-A83F-4275-9C47-77D4A5BF10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9050B-9B50-4DA0-8A9D-3BEC6B1626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03C19-874C-4EB3-AE33-D0D05696FF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A71-3B0D-402C-ACAE-D20C81275D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53A8-D90B-4E70-8A79-82D26295DD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FE2-D705-4715-BA7F-FBE378BE00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8D3-690D-4A09-B498-2A903EE8C3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523-0240-437D-B0E4-2E45AFC625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BC11-8715-4FEB-AC20-3D5E9C538A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350-B5D1-49EE-AA04-BF46318D7D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A05-9332-44A6-8BED-62C9BE9346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A55-19B9-415C-9480-EEE33FB1EB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6CD-7498-44A9-AFFA-542D52E8FB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40D-5669-472D-85A5-576A429907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CDE-7CB4-4433-9FC5-86C51EFD11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454-43B3-4334-9E34-3F288CF215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1028-23CC-48E3-B19D-95ED8A9326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511E-589A-45E0-8549-8C2E6B98F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EAE7-2C0D-45C1-8ADE-B32B630BE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A240-6EEC-4B9A-A43B-5F7D6673A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E9C8-8400-4EB2-A415-6CBB33EA7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9E45-A500-4CB8-9FB8-449E39B5C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2106-D21F-4A4D-9990-A104DE12651F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92360" y="1052280"/>
            <a:ext cx="5183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71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e271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0C24-6715-48BD-9A7B-4701F1A558CD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914400" indent="92160" algn="ctr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371600" indent="42840" algn="ctr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826560" y="6365520"/>
            <a:ext cx="838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93FD-11A9-42E4-8DF0-A0B031E70C6E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42920" y="2295360"/>
            <a:ext cx="6202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8569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n-US" sz="4000" spc="-1" strike="noStrike">
                <a:solidFill>
                  <a:srgbClr val="e27100"/>
                </a:solidFill>
                <a:latin typeface="Arial"/>
              </a:rPr>
              <a:t>Понятие и задачи информационного менеджмента</a:t>
            </a:r>
            <a:endParaRPr b="0" lang="en-US" sz="4000" spc="-1" strike="noStrike">
              <a:solidFill>
                <a:srgbClr val="e27100"/>
              </a:solidFill>
              <a:latin typeface="Arial"/>
            </a:endParaRPr>
          </a:p>
        </p:txBody>
      </p:sp>
      <p:pic>
        <p:nvPicPr>
          <p:cNvPr id="155" name="Picture 3" descr="Сибгути  Инфо"/>
          <p:cNvPicPr/>
          <p:nvPr/>
        </p:nvPicPr>
        <p:blipFill>
          <a:blip r:embed="rId2"/>
          <a:srcRect l="0" t="0" r="0" b="22309"/>
          <a:stretch/>
        </p:blipFill>
        <p:spPr>
          <a:xfrm>
            <a:off x="3589200" y="19080"/>
            <a:ext cx="1774800" cy="175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F34C-3CCB-4812-B49B-F5511E1249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c2c84"/>
                </a:solidFill>
                <a:latin typeface="Arial"/>
              </a:rPr>
              <a:t>Задачи информационного менеджмента:</a:t>
            </a:r>
            <a:endParaRPr b="0" lang="en-US" sz="30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формирование технологической среды ИС;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развитие ИС и обеспечение ее обслуживания;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планирование в среде ИС;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формирование организационной структуры в области информатизации;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использование и эксплуатация ИС;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формирование инновационной политики и осуществление инновационных программ;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управление персоналом в сфере информатизации;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управление капиталовложениями в сфере информатизации;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SzPct val="12575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2c84"/>
                </a:solidFill>
                <a:latin typeface="Arial"/>
              </a:rPr>
              <a:t>формирование и обеспечение комплексной защищенности информационных ресурсов. </a:t>
            </a:r>
            <a:endParaRPr b="0" lang="en-US" sz="18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286E-2773-4E64-A45A-72E62A9AEE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147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-263880">
              <a:spcBef>
                <a:spcPts val="7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c2c84"/>
                </a:solidFill>
                <a:latin typeface="Arial"/>
              </a:rPr>
              <a:t>Информация играет в обществе все более важную роль. Ее ставят в один ряд с фундаментальными понятиями мироздания: веществом и энергией. Упорядоченную, доступную и активно используемую информацию оценивают как ресурс наряду с материальными, энергетическими, финансовыми и интеллектуальными ресурсами. Эффективное управление информационными ресурсами становится специфической проблемой менеджмента.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6BAB-084E-422F-86E5-8C5DB73F5F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2c84"/>
                </a:solidFill>
                <a:latin typeface="Times New Roman"/>
                <a:ea typeface="Times New Roman"/>
              </a:rPr>
              <a:t>Специалист по информационным технологиям должен разбираться в следующих вопросах:</a:t>
            </a:r>
            <a:r>
              <a:rPr b="0" lang="en-US" sz="3200" spc="-1" strike="noStrike">
                <a:solidFill>
                  <a:srgbClr val="2c2c84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4470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как осуществляется кратко-, средне- и долгосрочное планирование информационных систем;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какие особенности имеет область обработки информации и как формируется ее организационная структура;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что такое производственный менеджмент в сфере обработки информации;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что такое инновационный менеджмент и какие особенности имеет управление проектами в области обработки информации;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как эффективно использовать кадровый потенциал и какие особенности имеет управление персоналом в сфере информатизации;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что такое финансовый менеджмент и на что тратятся средства в информационных системах;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как и чем обеспечивается правовая защищенность информационных ресурсов.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EBCA-A921-42BB-91E6-32FC12D5E5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c2c84"/>
                </a:solidFill>
                <a:latin typeface="Arial"/>
              </a:rPr>
              <a:t>Понятие информационного менеджмента</a:t>
            </a:r>
            <a:endParaRPr b="0" lang="en-US" sz="30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000" y="162864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c2c84"/>
                </a:solidFill>
                <a:latin typeface="Arial"/>
              </a:rPr>
              <a:t>Под ИМ понимается специальная область менеджмента, выделившаяся как самостоятельное направление в последние годы и все более приобретающая специфические особенности Информационный менеджмент охватывает все аспекты проблемы менеджмента в сфере создания и использования информационных ресурсов.</a:t>
            </a:r>
            <a:endParaRPr b="0" lang="en-US" sz="25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4161-5DAC-40EB-A604-1EBE405C9E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c2c84"/>
                </a:solidFill>
                <a:uFillTx/>
                <a:latin typeface="Arial"/>
              </a:rPr>
              <a:t>Цель информационного менеджмента:</a:t>
            </a:r>
            <a:r>
              <a:rPr b="0" lang="en-US" sz="2800" spc="-1" strike="noStrike" u="sng">
                <a:solidFill>
                  <a:srgbClr val="00b0f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повышение эффективности деятельности предприятия на основе использования информационных систем (ИС) и технологий (ИТ).</a:t>
            </a:r>
            <a:br>
              <a:rPr sz="2000"/>
            </a:br>
            <a:br>
              <a:rPr sz="2800"/>
            </a:br>
            <a:r>
              <a:rPr b="0" lang="en-US" sz="2800" spc="-1" strike="noStrike" u="sng">
                <a:solidFill>
                  <a:srgbClr val="2c2c84"/>
                </a:solidFill>
                <a:uFillTx/>
                <a:latin typeface="Arial"/>
              </a:rPr>
              <a:t>Предмет информационного менеджмента: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процессы создания, эксплуатации и развития ИС предприят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0EAC-C0B6-4AD1-96CE-60B22264AA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Arial"/>
              </a:rPr>
              <a:t>Область профессиональной деятельности менеджера – </a:t>
            </a:r>
            <a:endParaRPr b="0" lang="en-US" sz="27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2c84"/>
                </a:solidFill>
                <a:latin typeface="Arial"/>
              </a:rPr>
              <a:t>обеспечение эффективного управления информационными ресурсами и информационными системами на уровне организации, </a:t>
            </a:r>
            <a:endParaRPr b="0" lang="en-US" sz="2100" spc="-1" strike="noStrike">
              <a:solidFill>
                <a:srgbClr val="2c2c84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2c84"/>
                </a:solidFill>
                <a:latin typeface="Arial"/>
              </a:rPr>
              <a:t>обеспечение использования информации как стратегического ресурса,</a:t>
            </a:r>
            <a:endParaRPr b="0" lang="en-US" sz="2100" spc="-1" strike="noStrike">
              <a:solidFill>
                <a:srgbClr val="2c2c84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2c84"/>
                </a:solidFill>
                <a:latin typeface="Arial"/>
              </a:rPr>
              <a:t>организация систем управления в отрасли информационного бизнеса,</a:t>
            </a:r>
            <a:endParaRPr b="0" lang="en-US" sz="2100" spc="-1" strike="noStrike">
              <a:solidFill>
                <a:srgbClr val="2c2c84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2c84"/>
                </a:solidFill>
                <a:latin typeface="Arial"/>
              </a:rPr>
              <a:t>совершенствование управления в соответствии с тенденция-ми социально-экономического развития.</a:t>
            </a:r>
            <a:endParaRPr b="0" lang="en-US" sz="21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C014-0280-4CBD-A005-C8D95FAC32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785520" y="1572840"/>
            <a:ext cx="746748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Сферу информационного менеджмента составляет совокупность всех задач управления, связанных с формированием и использованием информации во всех ее формах и состояниях для достижения поставленных перед предприятием целей.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2E78-393A-4C3C-A279-1A0CA91DC3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Arial"/>
              </a:rPr>
              <a:t>Основные направления информационного менеджмента:</a:t>
            </a:r>
            <a:endParaRPr b="0" lang="en-US" sz="27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400" y="2332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– </a:t>
            </a: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управление информационной системой (ИС) на всех этапах ее жизненного цикла;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– </a:t>
            </a: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стратегическое развитие ИС;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– </a:t>
            </a: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маркетинг ИС.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8EF5-016C-44AA-B295-590034F8CC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Arial"/>
              </a:rPr>
              <a:t>Информационный менеджмент в организации выполняет: </a:t>
            </a:r>
            <a:endParaRPr b="0" lang="en-US" sz="27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99680" y="26431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Стратегические задачи,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оперативные задачи,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административные задачи.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1313-3D6A-493B-9130-817065C3D2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8:25:44Z</dcterms:created>
  <dc:creator>www.MRMARKER.ru</dc:creator>
  <dc:description/>
  <dc:language>en-US</dc:language>
  <cp:lastModifiedBy>LEXUS</cp:lastModifiedBy>
  <dcterms:modified xsi:type="dcterms:W3CDTF">2018-09-09T12:54:15Z</dcterms:modified>
  <cp:revision>5</cp:revision>
  <dc:subject/>
  <dc:title>Понятие и задачи информационного менеджмента</dc:title>
</cp:coreProperties>
</file>