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2FF-6C24-4F47-ADD1-E69A406E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F8E-FA91-4AB4-8A55-34B8B3A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058-DEC2-4AA5-A9C7-96000DF0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AD0-0BB0-4C00-AD01-5A9B075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13A-4AA0-4557-AC9E-7A78E2B5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35E2-5062-4905-B653-FF878458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36A4-9469-4067-9ED2-C66A3E7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0E2D-058B-4E6E-9A91-0B5FCDE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A218-DEB0-4830-8F05-C802A9F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F6DE-4067-4D05-80A7-C85297A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379F-D1D1-4B0E-BB39-472E28D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E1C-1B8D-40B3-B895-B485CA15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5808-61E0-4AF4-934E-707618A4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AC53-6C52-43C6-8DA6-A5E2A33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D2ED-6F6A-4B02-A48F-6C88C29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D9C6-1BAD-4C02-82DC-4F6130BD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7C7E-BC12-4C39-AF70-892CFE09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C4B2-D58E-4364-861D-89830C7C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0695-2D3B-436F-A82C-7A6FF826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FB48-21FF-4B08-B3AD-C0FCF0E9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2AD6-9840-43D6-ABC7-C364E849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C63B-3C2C-44E4-8661-5BF6ACA6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5BE-41D5-44B3-B709-6BF0C4A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038A-7683-45E7-97F4-0D19BC1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6F72-A2C8-4BCE-A634-9D12959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FFA8-2C7E-45F2-A5CD-A60255E6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3300-ED2A-4C08-99BD-B691611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E1BC-F810-448B-A285-A9A90E05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C760-D252-4F6F-A4E3-11119396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4E85-D213-4476-AF31-56518423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15F8-15D6-42C7-A1B8-D09D225A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F0E6-9C3B-4A1A-8FA2-C356737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5746-EA69-4CFB-8835-EC6B9A6E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DCF-E813-4FF5-8AD1-7F8CC065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D204-A2E0-4665-9002-E67710C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7E2B-7AF8-4E70-BA19-BC8A821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4F76-E2CA-42D8-AEA8-DC7D7838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4095-C8B1-4C77-8F0B-640FA19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AF82-A49B-4BA2-B9B1-927C628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8E75-5BEA-4A5F-ABC9-ACF6010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A8D3-179C-4645-B833-07670C9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F3DB-D0D5-4197-83A8-C4971AAA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3EA7-AA89-49E0-9AF9-2513D49F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61C4-A4C2-487A-B14F-12BCE1BB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73D-3A19-472D-9146-7DE2468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5504-71F1-4DC5-85A0-68D3102F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C56C-271A-44BC-8013-DF8A2BB3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038D-B067-4B59-B898-A66BF91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3C1A-AE6C-44D9-8953-B18D3B5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1AB8-B430-42AA-8225-743BCA7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36C0-D6A5-48C5-87E7-79B66A9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6157-2DD1-4258-AE1F-1BE0C8F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23BD2-31E7-485C-924F-5135C76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665C-5C0E-40E2-8FCC-5C9E5F7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312D1-A457-4F6E-A20F-E9000EED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A27-FFD6-4B41-9D10-E8FA3C5B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1A55E-B203-4A95-B115-0DE3ED1E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A766-679C-476A-A388-FCAF6097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8460-A137-4066-B39F-5E5D9075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1507-FC87-4020-AE79-7689575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8A5C-963C-4BFA-B6CC-808F23A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45B6-CB3E-4156-931C-745B0936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37FC-5237-4956-B1AB-F90F296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79301-F026-4DB4-93FA-2F1A8CB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ABCC-5011-4E67-B136-D81B3CF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D4E4-BDCE-4218-925A-A82E2C3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2D6-FC61-4B2A-BD71-8AE3753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A12C-0022-4BF8-83D0-249499F9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EE51-9E77-4D92-86C6-D6E08BF9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F8B91-9B5A-40A9-A489-4ECF388A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DAD93-4708-46DC-B5AF-1FD985C4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D0AA-02EC-4DDB-919E-84798766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A65D-F165-4943-94F0-26655C8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A8F3-8BD7-4039-9974-D7DE8E6D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72FE6-0BFC-4649-A1C1-83B3D29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B87F-1313-4D55-A5E4-F5A1842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12FCE-C89A-46C8-B28E-E86F179D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DB9-0105-4846-A3E3-4EEF6A0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DC32-A4E9-4161-839E-F42DC19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69790-F2A3-48AB-93F9-41B71CD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A337-B59A-4D3C-A494-706E4BBD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E7F0-6C81-4F14-98C7-49B3EC8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5906-8FF2-4A23-9B03-50062BBA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FC9-D826-4F3E-B15A-0633CA61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A31A-7B0E-4D63-84C1-7AD807008D2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943-B202-461A-8E96-5F6DC8E0254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DD27-733F-4147-8671-6455B4283E5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3C6B-B841-42AC-AFE7-48AEB7D5278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507-AF38-4C10-90C0-0C22764782A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FFD-F8B0-4F26-9602-923CA1E82F6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BC26-0266-4C8E-A617-CC48372280A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71280" y="2565360"/>
            <a:ext cx="7993080" cy="1100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Основные направления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нформационного менеджмент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3" descr="Сибгути  Инфо"/>
          <p:cNvPicPr/>
          <p:nvPr/>
        </p:nvPicPr>
        <p:blipFill>
          <a:blip r:embed="rId2"/>
          <a:srcRect l="0" t="0" r="0" b="22309"/>
          <a:stretch/>
        </p:blipFill>
        <p:spPr>
          <a:xfrm>
            <a:off x="3873600" y="162000"/>
            <a:ext cx="1774800" cy="1754280"/>
          </a:xfrm>
          <a:prstGeom prst="rect">
            <a:avLst/>
          </a:prstGeom>
          <a:ln w="0">
            <a:noFill/>
          </a:ln>
        </p:spPr>
      </p:pic>
      <p:sp>
        <p:nvSpPr>
          <p:cNvPr id="320" name="Заголовок 1"/>
          <p:cNvSpPr/>
          <p:nvPr/>
        </p:nvSpPr>
        <p:spPr>
          <a:xfrm>
            <a:off x="1116000" y="4751280"/>
            <a:ext cx="7920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:  доцент  кафедры  ММБП  СибГУ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. Полетайкин Алексе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979640" y="1268280"/>
            <a:ext cx="6452640" cy="4392000"/>
            <a:chOff x="1979640" y="1268280"/>
            <a:chExt cx="6452640" cy="4392000"/>
          </a:xfrm>
        </p:grpSpPr>
        <p:grpSp>
          <p:nvGrpSpPr>
            <p:cNvPr id="362" name="Group 3"/>
            <p:cNvGrpSpPr/>
            <p:nvPr/>
          </p:nvGrpSpPr>
          <p:grpSpPr>
            <a:xfrm>
              <a:off x="1979640" y="1268280"/>
              <a:ext cx="6423480" cy="4392000"/>
              <a:chOff x="1979640" y="1268280"/>
              <a:chExt cx="6423480" cy="4392000"/>
            </a:xfrm>
          </p:grpSpPr>
          <p:grpSp>
            <p:nvGrpSpPr>
              <p:cNvPr id="363" name="Group 4"/>
              <p:cNvGrpSpPr/>
              <p:nvPr/>
            </p:nvGrpSpPr>
            <p:grpSpPr>
              <a:xfrm>
                <a:off x="1998720" y="1409760"/>
                <a:ext cx="5497200" cy="4250160"/>
                <a:chOff x="1998720" y="1409760"/>
                <a:chExt cx="5497200" cy="4250160"/>
              </a:xfrm>
            </p:grpSpPr>
            <p:sp>
              <p:nvSpPr>
                <p:cNvPr id="364" name="Line 5"/>
                <p:cNvSpPr/>
                <p:nvPr/>
              </p:nvSpPr>
              <p:spPr>
                <a:xfrm flipH="1">
                  <a:off x="2962440" y="5659920"/>
                  <a:ext cx="453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6"/>
                <p:cNvSpPr/>
                <p:nvPr/>
              </p:nvSpPr>
              <p:spPr>
                <a:xfrm>
                  <a:off x="3450600" y="4620240"/>
                  <a:ext cx="3269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ие предприятием индустри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тик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7"/>
                <p:cNvSpPr/>
                <p:nvPr/>
              </p:nvSpPr>
              <p:spPr>
                <a:xfrm>
                  <a:off x="5200200" y="1409760"/>
                  <a:ext cx="2247840" cy="425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8"/>
                <p:cNvSpPr/>
                <p:nvPr/>
              </p:nvSpPr>
              <p:spPr>
                <a:xfrm flipH="1">
                  <a:off x="2952000" y="1409760"/>
                  <a:ext cx="2247840" cy="425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9"/>
                <p:cNvSpPr/>
                <p:nvPr/>
              </p:nvSpPr>
              <p:spPr>
                <a:xfrm>
                  <a:off x="3182400" y="5212440"/>
                  <a:ext cx="406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0"/>
                <p:cNvSpPr/>
                <p:nvPr/>
              </p:nvSpPr>
              <p:spPr>
                <a:xfrm>
                  <a:off x="3462840" y="4653360"/>
                  <a:ext cx="345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1"/>
                <p:cNvSpPr/>
                <p:nvPr/>
              </p:nvSpPr>
              <p:spPr>
                <a:xfrm>
                  <a:off x="3871800" y="3981960"/>
                  <a:ext cx="2714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2"/>
                <p:cNvSpPr/>
                <p:nvPr/>
              </p:nvSpPr>
              <p:spPr>
                <a:xfrm>
                  <a:off x="4248720" y="3199320"/>
                  <a:ext cx="192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Text Box 13"/>
                <p:cNvSpPr/>
                <p:nvPr/>
              </p:nvSpPr>
              <p:spPr>
                <a:xfrm>
                  <a:off x="4158720" y="2060280"/>
                  <a:ext cx="2017800" cy="10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истемы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ционно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поддержк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ческих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решени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Text Box 14"/>
                <p:cNvSpPr/>
                <p:nvPr/>
              </p:nvSpPr>
              <p:spPr>
                <a:xfrm>
                  <a:off x="4345920" y="3438000"/>
                  <a:ext cx="1820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ционные системы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 менеджмент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Text Box 15"/>
                <p:cNvSpPr/>
                <p:nvPr/>
              </p:nvSpPr>
              <p:spPr>
                <a:xfrm>
                  <a:off x="3510360" y="4076640"/>
                  <a:ext cx="34905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ие информационными системам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предприятия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6"/>
                <p:cNvSpPr/>
                <p:nvPr/>
              </p:nvSpPr>
              <p:spPr>
                <a:xfrm>
                  <a:off x="2934720" y="5300640"/>
                  <a:ext cx="450900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Управление информационными ресурсами страны и мир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7"/>
                <p:cNvSpPr/>
                <p:nvPr/>
              </p:nvSpPr>
              <p:spPr>
                <a:xfrm flipH="1">
                  <a:off x="2459520" y="1409760"/>
                  <a:ext cx="2747880" cy="27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8"/>
                <p:cNvSpPr/>
                <p:nvPr/>
              </p:nvSpPr>
              <p:spPr>
                <a:xfrm flipH="1" flipV="1">
                  <a:off x="2295360" y="3758040"/>
                  <a:ext cx="656280" cy="190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"/>
                <p:cNvSpPr/>
                <p:nvPr/>
              </p:nvSpPr>
              <p:spPr>
                <a:xfrm flipH="1">
                  <a:off x="2746800" y="1409760"/>
                  <a:ext cx="2460960" cy="36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"/>
                <p:cNvSpPr/>
                <p:nvPr/>
              </p:nvSpPr>
              <p:spPr>
                <a:xfrm flipH="1">
                  <a:off x="2624040" y="1409760"/>
                  <a:ext cx="2584080" cy="324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1"/>
                <p:cNvSpPr/>
                <p:nvPr/>
              </p:nvSpPr>
              <p:spPr>
                <a:xfrm flipH="1">
                  <a:off x="2295360" y="1409760"/>
                  <a:ext cx="2912040" cy="234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2"/>
                <p:cNvSpPr/>
                <p:nvPr/>
              </p:nvSpPr>
              <p:spPr>
                <a:xfrm>
                  <a:off x="1998720" y="3932280"/>
                  <a:ext cx="35964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3"/>
                <p:cNvSpPr/>
                <p:nvPr/>
              </p:nvSpPr>
              <p:spPr>
                <a:xfrm>
                  <a:off x="2214360" y="4436640"/>
                  <a:ext cx="359640" cy="37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24"/>
                <p:cNvSpPr/>
                <p:nvPr/>
              </p:nvSpPr>
              <p:spPr>
                <a:xfrm>
                  <a:off x="2286360" y="4796640"/>
                  <a:ext cx="28764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…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25"/>
                <p:cNvSpPr/>
                <p:nvPr/>
              </p:nvSpPr>
              <p:spPr>
                <a:xfrm>
                  <a:off x="2430360" y="5300640"/>
                  <a:ext cx="35964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26"/>
              <p:cNvSpPr/>
              <p:nvPr/>
            </p:nvSpPr>
            <p:spPr>
              <a:xfrm>
                <a:off x="1979640" y="1268280"/>
                <a:ext cx="1891440" cy="15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феры информационног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неджмента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)производство,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b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)финансы,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c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)информатика (как</a:t>
                </a:r>
                <a:r>
                  <a:rPr b="0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сфера экономики)…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27"/>
              <p:cNvGrpSpPr/>
              <p:nvPr/>
            </p:nvGrpSpPr>
            <p:grpSpPr>
              <a:xfrm>
                <a:off x="5165280" y="1384200"/>
                <a:ext cx="3237840" cy="4276080"/>
                <a:chOff x="5165280" y="1384200"/>
                <a:chExt cx="3237840" cy="4276080"/>
              </a:xfrm>
            </p:grpSpPr>
            <p:grpSp>
              <p:nvGrpSpPr>
                <p:cNvPr id="387" name="Group 28"/>
                <p:cNvGrpSpPr/>
                <p:nvPr/>
              </p:nvGrpSpPr>
              <p:grpSpPr>
                <a:xfrm>
                  <a:off x="5165280" y="1384200"/>
                  <a:ext cx="2460600" cy="4276080"/>
                  <a:chOff x="5165280" y="1384200"/>
                  <a:chExt cx="2460600" cy="4276080"/>
                </a:xfrm>
              </p:grpSpPr>
              <p:sp>
                <p:nvSpPr>
                  <p:cNvPr id="388" name="Line 29"/>
                  <p:cNvSpPr/>
                  <p:nvPr/>
                </p:nvSpPr>
                <p:spPr>
                  <a:xfrm flipV="1">
                    <a:off x="5165280" y="1384200"/>
                    <a:ext cx="2362680" cy="2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30"/>
                  <p:cNvSpPr/>
                  <p:nvPr/>
                </p:nvSpPr>
                <p:spPr>
                  <a:xfrm>
                    <a:off x="6589800" y="3961800"/>
                    <a:ext cx="1036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31"/>
                  <p:cNvSpPr/>
                  <p:nvPr/>
                </p:nvSpPr>
                <p:spPr>
                  <a:xfrm>
                    <a:off x="7496280" y="1407240"/>
                    <a:ext cx="0" cy="425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Text Box 32"/>
                <p:cNvSpPr/>
                <p:nvPr/>
              </p:nvSpPr>
              <p:spPr>
                <a:xfrm>
                  <a:off x="7107840" y="1976760"/>
                  <a:ext cx="1295280" cy="40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форматизация менеджмент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Text Box 33"/>
            <p:cNvSpPr/>
            <p:nvPr/>
          </p:nvSpPr>
          <p:spPr>
            <a:xfrm>
              <a:off x="7137360" y="4073040"/>
              <a:ext cx="1294920" cy="42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енеджм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нформатиз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34"/>
          <p:cNvSpPr/>
          <p:nvPr/>
        </p:nvSpPr>
        <p:spPr>
          <a:xfrm>
            <a:off x="1258920" y="23184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спределение задач информационного менеджмента по уровням управления и сферам экономики показано на рис. 1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5"/>
          <p:cNvSpPr/>
          <p:nvPr/>
        </p:nvSpPr>
        <p:spPr>
          <a:xfrm>
            <a:off x="1042920" y="5992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ис. 1.2 - Распределение задач информационного менеджмента по уровня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Прямая со стрелкой 38"/>
          <p:cNvCxnSpPr/>
          <p:nvPr/>
        </p:nvCxnSpPr>
        <p:spPr>
          <a:xfrm>
            <a:off x="3492000" y="4292280"/>
            <a:ext cx="359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6" name="Прямая со стрелкой 40"/>
          <p:cNvCxnSpPr/>
          <p:nvPr/>
        </p:nvCxnSpPr>
        <p:spPr>
          <a:xfrm flipV="1">
            <a:off x="3492000" y="4005000"/>
            <a:ext cx="72360" cy="288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7" name="Прямая со стрелкой 42"/>
          <p:cNvCxnSpPr/>
          <p:nvPr/>
        </p:nvCxnSpPr>
        <p:spPr>
          <a:xfrm>
            <a:off x="3492000" y="4292640"/>
            <a:ext cx="288360" cy="505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8" name="Прямая со стрелкой 44"/>
          <p:cNvCxnSpPr/>
          <p:nvPr/>
        </p:nvCxnSpPr>
        <p:spPr>
          <a:xfrm>
            <a:off x="3492360" y="4292640"/>
            <a:ext cx="216720" cy="1008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66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4. Значение и роль информационного менеджмента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в современном обществ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5528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витие цивилизованных стран происходит в направлении создания инфор-мационного общества, т. е. общества, в котором большинство работающих занято производством, сбором, хранением, переработкой и использованием информации, прежде всего в ее высшей форме – форме знан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настоящее время число информационных работников в США составляет около 50 % рабочей силы, число же производственных работников – 20 %, в том числе, работников сельского хозяйства – 5 %. Если объединить в одну группу работников, занятых в информационных технологиях и в сфере обслуживания, то их доля будет около 80 %, Предсказывают, что на ближайшие годы работники этой группы составят приблизительно 90 %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связи с этим, становится очевидной необходимостью управленческая роль  ИТ-менеджера</a:t>
            </a: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сфере информатизации, что в значительной мере определяет  темп научно–технического прогр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личие более мощных и эффективных информационных систем, позволяющих эффективно создавать, накапливать и использовать оперативную и полную инфор-мацию, дает компаниям преимущество перед конкурентами, а невнимание к качеству и эффективности информационных систем ведет к потере позиц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настоящее время информация превратилась в один из важнейших ресурсов предприятия. От качества данного ресурса и эффективности его использования во многом зависит и эффективность, и жизнеспособность предприятия в целом. В этом лежит причина важности роли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нформационного менеджмент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 современных услови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59961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УЧЕБНЫЕ ВОПРОСЫ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11280" y="475920"/>
            <a:ext cx="6408720" cy="27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ts val="2299"/>
              </a:lnSpc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Основные направления информационного менеджмен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ts val="2299"/>
              </a:lnSpc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Задачи информационного менеджмен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ts val="2299"/>
              </a:lnSpc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Значение и роль информационного менеджмента в современном обществ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http://cs9992.userapi.com/u136591984/-6/x_505dc43b.jpg"/>
          <p:cNvPicPr/>
          <p:nvPr/>
        </p:nvPicPr>
        <p:blipFill>
          <a:blip r:embed="rId2"/>
          <a:stretch/>
        </p:blipFill>
        <p:spPr>
          <a:xfrm>
            <a:off x="5616720" y="3497400"/>
            <a:ext cx="35272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93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93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19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19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4437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2920" y="476280"/>
            <a:ext cx="7497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-514440" algn="ctr">
              <a:buClr>
                <a:srgbClr val="572314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Определение информационного менеджмента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26560" y="2491920"/>
            <a:ext cx="8029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нятие «Информационный менеджмент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трактуется как менедж-мент в любой сфере деятельности на основе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-ционных систем и 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то есть как информатизация менеджмен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он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(ИС)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formation syste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IS)  - это совокупность информационных технологий, обрабатываемой информа-ции, ее источников и потребител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С состоит из источников информации, функциональной части, обеспечивающих частей, к которым относятся организационное, инфор-мационное, программное и техническое обеспечение, а также конечные пользователи (потребители) информ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 понятием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«информационные технологии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(ИТ)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от англ. information technology, IT) понимают совокупность средств  и методов сбора, хранения, обработки и выдачи информации в интересах управле-ния организаци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стоящее время под ИТ чаще всего понимают информационно - коммуникационные технологии, основанные на компьютерной обработке информации в сетевом окружен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403280" y="981000"/>
            <a:ext cx="7291080" cy="504360"/>
            <a:chOff x="1403280" y="981000"/>
            <a:chExt cx="7291080" cy="504360"/>
          </a:xfrm>
        </p:grpSpPr>
        <p:sp>
          <p:nvSpPr>
            <p:cNvPr id="328" name="Text Box 3"/>
            <p:cNvSpPr/>
            <p:nvPr/>
          </p:nvSpPr>
          <p:spPr>
            <a:xfrm>
              <a:off x="6204240" y="1132200"/>
              <a:ext cx="3340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Rectangle 4"/>
            <p:cNvGrpSpPr/>
            <p:nvPr/>
          </p:nvGrpSpPr>
          <p:grpSpPr>
            <a:xfrm>
              <a:off x="1403280" y="981000"/>
              <a:ext cx="2087640" cy="504360"/>
              <a:chOff x="1403280" y="981000"/>
              <a:chExt cx="2087640" cy="504360"/>
            </a:xfrm>
          </p:grpSpPr>
          <p:pic>
            <p:nvPicPr>
              <p:cNvPr id="330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981000"/>
                <a:ext cx="208764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1481760" y="1022040"/>
                <a:ext cx="19342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Информационный менеджмен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Rectangle 5"/>
            <p:cNvGrpSpPr/>
            <p:nvPr/>
          </p:nvGrpSpPr>
          <p:grpSpPr>
            <a:xfrm>
              <a:off x="3873600" y="981000"/>
              <a:ext cx="2267280" cy="504360"/>
              <a:chOff x="3873600" y="981000"/>
              <a:chExt cx="2267280" cy="504360"/>
            </a:xfrm>
          </p:grpSpPr>
          <p:pic>
            <p:nvPicPr>
              <p:cNvPr id="333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873600" y="981000"/>
                <a:ext cx="226728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3948840" y="1022040"/>
                <a:ext cx="21128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Информатизация менеджмент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Rectangle 6"/>
            <p:cNvGrpSpPr/>
            <p:nvPr/>
          </p:nvGrpSpPr>
          <p:grpSpPr>
            <a:xfrm>
              <a:off x="6552720" y="981000"/>
              <a:ext cx="2141640" cy="504360"/>
              <a:chOff x="6552720" y="981000"/>
              <a:chExt cx="2141640" cy="504360"/>
            </a:xfrm>
          </p:grpSpPr>
          <p:pic>
            <p:nvPicPr>
              <p:cNvPr id="336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2720" y="981000"/>
                <a:ext cx="214164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6627240" y="1022040"/>
                <a:ext cx="19915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e4e4e"/>
                    </a:solidFill>
                    <a:latin typeface="Times New Roman"/>
                    <a:ea typeface="Arial"/>
                  </a:rPr>
                  <a:t>Менеджмент информатизац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 Box 7"/>
            <p:cNvSpPr/>
            <p:nvPr/>
          </p:nvSpPr>
          <p:spPr>
            <a:xfrm>
              <a:off x="3455640" y="1132200"/>
              <a:ext cx="492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8"/>
          <p:cNvSpPr/>
          <p:nvPr/>
        </p:nvSpPr>
        <p:spPr>
          <a:xfrm>
            <a:off x="1187280" y="2620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ожно предложить условную формулу информационного менедж-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1332000" y="1702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 1.1 - Составные компоненты информационного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едж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87280" y="208332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Технология информационного менеджмента содержит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элементы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,            к которым относятся: документная информация, персонал, технические и программные средства обеспечения информационных процессов, а также нормативно установленные процедуры формирования и использования информацион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Информация представляет собой важнейший фактор производства, который лежит в основе процесса принятия управленчески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http://img638.imageshack.us/img638/103/wpidpoznawajjezykiipozw.jpg"/>
          <p:cNvPicPr/>
          <p:nvPr/>
        </p:nvPicPr>
        <p:blipFill>
          <a:blip r:embed="rId5"/>
          <a:stretch/>
        </p:blipFill>
        <p:spPr>
          <a:xfrm>
            <a:off x="3851280" y="4365720"/>
            <a:ext cx="2116080" cy="2233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http://www.truckertotrucker.com/wp-content/uploads/2011/02/insurance-paper-300x244.jpg"/>
          <p:cNvPicPr/>
          <p:nvPr/>
        </p:nvPicPr>
        <p:blipFill>
          <a:blip r:embed="rId6"/>
          <a:stretch/>
        </p:blipFill>
        <p:spPr>
          <a:xfrm>
            <a:off x="1258920" y="4365720"/>
            <a:ext cx="2665440" cy="2324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http://soft.cnews.ru/i/art/142/fs_home_in1.jpg"/>
          <p:cNvPicPr/>
          <p:nvPr/>
        </p:nvPicPr>
        <p:blipFill>
          <a:blip r:embed="rId7"/>
          <a:stretch/>
        </p:blipFill>
        <p:spPr>
          <a:xfrm>
            <a:off x="6732720" y="43657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93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93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93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93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55640" y="2565360"/>
            <a:ext cx="8105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онный менеджмент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хватывает все аспекты в сфере соз-дания и использования информационных ресурс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ль информационного менеджмента: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вышение эффективности деятельности предприятия на основе использования информационных систем (ИС) и технологий (ИТ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дмет информационного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процессы создания, эксплуатации и развития ИС предприя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ласть профессиональной деятельности менедже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обеспечение эффективного управления информационными ресурсами и информацион-ными системами на уровне организации, обеспечение использования информации как стратегического ресурса, организация систем управления в отрасли информационного бизнеса, совершенствование управления          в соответствии с тенденциями социально-экономического разви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2" descr="http://s015.radikal.ru/i331/1101/53/4f7d92a5c64d.png"/>
          <p:cNvPicPr/>
          <p:nvPr/>
        </p:nvPicPr>
        <p:blipFill>
          <a:blip r:embed="rId2"/>
          <a:stretch/>
        </p:blipFill>
        <p:spPr>
          <a:xfrm>
            <a:off x="5076720" y="333360"/>
            <a:ext cx="3713400" cy="2016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ttp://arkanbiz.ru/wp-content/uploads/2012/05/novyie-tehnologii-biznesa.jpg"/>
          <p:cNvPicPr/>
          <p:nvPr/>
        </p:nvPicPr>
        <p:blipFill>
          <a:blip r:embed="rId3"/>
          <a:stretch/>
        </p:blipFill>
        <p:spPr>
          <a:xfrm>
            <a:off x="1258920" y="333360"/>
            <a:ext cx="3717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826560" y="692280"/>
            <a:ext cx="813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ъектами профессиональной деятельности менедже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являются различные информационные ресурсы и информационные системы органи-заций экономической, производственной и социальной сферы, информа-ционные ресурсы и информационные системы подразделений систем управления государственных предприятий, акционерных обществ и част-ных фирм, а также различные организации в сфере информационного бизнес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фессиональная деятельность менеджера распространяется также на информационные ресурсы и информационные системы научно-произ-водственных объединений, научных, конструкторских и проектных органи-заций, органов государственного управления и социальной инфраструк-туры народного хозяй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феру информационного менеджмент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ставляет совокупность всех задач управления, связанных с формированием и использованием информации во всех ее формах и состояниях для достижения поставленных перед предприятием цел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этом должны решаться задачи определения ценности и эффек-тивности использования не только собственно информации (данных и знаний), но и других ресурсов предприятия, в той или иной мере входящих в контакт с информацией: технологических, кадровых, финансовых и т. д.    В этих задачах управления в той или иной мере используются информа-ционные системы и реализованные в них информационные технолог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42560" y="18864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нцепция информационного менеджмента объединяет следую-щие подход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экономически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рассматривающий вопросы привлечения новой докумен-тированной информации, исходя из соображений полезности и финансо-вых затрат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аналитически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основанный на анализе потребностей пользователей в информации и коммуникациях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организационны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рассматривающий информационные технологии в их влиянии на организационные аспек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8d01"/>
                </a:solidFill>
                <a:latin typeface="Corbel"/>
              </a:rPr>
              <a:t>системны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рассматривающий обработку информации на основе целост-ного, системно ориентированного, всеохватывающего процесса обработ-ки информации в организации и уделяющий особое внимание оптимиза-ции коммуникационных каналов, информации, материальных средств и других затрат, методов рабо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4" descr="http://static.ddmcdn.com/gif/information-technology-25.jpg"/>
          <p:cNvPicPr/>
          <p:nvPr/>
        </p:nvPicPr>
        <p:blipFill>
          <a:blip r:embed="rId2"/>
          <a:stretch/>
        </p:blipFill>
        <p:spPr>
          <a:xfrm>
            <a:off x="1835280" y="4437000"/>
            <a:ext cx="2946240" cy="2216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img-fotki.yandex.ru/get/4704/102772065.4d/0_50757_dc3be45e_XL"/>
          <p:cNvPicPr/>
          <p:nvPr/>
        </p:nvPicPr>
        <p:blipFill>
          <a:blip r:embed="rId3"/>
          <a:stretch/>
        </p:blipFill>
        <p:spPr>
          <a:xfrm>
            <a:off x="5651640" y="4437000"/>
            <a:ext cx="286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http://crq11.org.br/painelcontrole/include/thumbnail.php?gd=2&amp;src=../../imagens/N_image001.jpg&amp;maxw=600px"/>
          <p:cNvPicPr/>
          <p:nvPr/>
        </p:nvPicPr>
        <p:blipFill>
          <a:blip r:embed="rId2"/>
          <a:stretch/>
        </p:blipFill>
        <p:spPr>
          <a:xfrm>
            <a:off x="1116000" y="620640"/>
            <a:ext cx="4154400" cy="3645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2. Основные направления информационного менеджм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3284280"/>
            <a:ext cx="789156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сновные направления информационного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правление информационной системой (ИС) на всех этапах ее жизненного цик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атегическое развитие ИС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тинг И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онный  менеджмен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организации выполня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трате-гически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оперативн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административн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задачи. К числу стратеги-ческих задач относятся: создание информационной инфраструктуры организации и управление информационными технологиями. Оператив-ные и административные задачи относят более узкий и подчиненный характе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http://www.valstietis.lt/var/ezwebin_site/storage/images/rubrikos/lietuvoje/43-proc.-lietuviu-nera-naudojesi-internetu/1039498-1-lit-LT/43-proc.-lietuviu-nera-naudojesi-internetu_img_newsarticle560.jpg"/>
          <p:cNvPicPr/>
          <p:nvPr/>
        </p:nvPicPr>
        <p:blipFill>
          <a:blip r:embed="rId3"/>
          <a:stretch/>
        </p:blipFill>
        <p:spPr>
          <a:xfrm>
            <a:off x="5796000" y="1052640"/>
            <a:ext cx="300528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4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4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4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4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http://nalogovoy.net/wp-content/uploads/istock_000004506581medium.jpg"/>
          <p:cNvPicPr/>
          <p:nvPr/>
        </p:nvPicPr>
        <p:blipFill>
          <a:blip r:embed="rId2"/>
          <a:stretch/>
        </p:blipFill>
        <p:spPr>
          <a:xfrm>
            <a:off x="1042920" y="2060640"/>
            <a:ext cx="3313080" cy="479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7497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3. Задачи информационного менеджм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76720" y="1196640"/>
            <a:ext cx="5688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ерархическая последовательность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оследующих задач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нформационного менеджмента включает в себя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ализ информационных потребностей управленческого персонала фирмы в процессе принятия управленческих решений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ализ источников информации для покрытия потреб-ностей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основание требований к построению информационных систем и организация в них процессов обработки инфор-мации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работка диалоговых моделей принятия решений (наличие человека в системе обработки информации позволяет отказываться от необходимости формализации ряда этапов решения управленческих задач)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правление системой информационного обслуживания на фирме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правление информационными ресурсами в стране и вне е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1332000" y="836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лав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нформационного менеджмента является информа-ционная поддержка основной деятельности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8:03:37Z</dcterms:created>
  <dc:creator>Попова М.В</dc:creator>
  <dc:description/>
  <dc:language>en-US</dc:language>
  <cp:lastModifiedBy>LEXUS</cp:lastModifiedBy>
  <dcterms:modified xsi:type="dcterms:W3CDTF">2018-09-09T13:20:36Z</dcterms:modified>
  <cp:revision>40</cp:revision>
  <dc:subject/>
  <dc:title>Лекция №1</dc:title>
</cp:coreProperties>
</file>