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5ACA-81DB-44C4-9177-C2FFD76BF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491A-D11E-4FF1-B035-FBD4ECB15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4386-C629-4546-983C-53346113B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99E8-175D-4C73-803C-F56A95C3A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0CAB-FAF7-4602-8DAF-0774AD659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F42A-E7A8-41BF-B3E8-7B99F1FE0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9CF8-4389-4148-80DF-10A00A555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7B34-4FBE-4C79-882E-0AF31D9C1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578A-AEAC-4E42-8745-90C3CB944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DD22-C212-43C3-A3F4-2E87C4425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D5A4-38CB-4870-B13F-82FE6236C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430D-DE6D-4D70-903F-C8219A68A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28637-6214-4A8D-A43D-D97EC8576F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mailto:alex.poletaykin@gmail.com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Сибгути  Инфо"/>
          <p:cNvPicPr/>
          <p:nvPr/>
        </p:nvPicPr>
        <p:blipFill>
          <a:blip r:embed="rId1"/>
          <a:srcRect l="0" t="0" r="0" b="22309"/>
          <a:stretch/>
        </p:blipFill>
        <p:spPr>
          <a:xfrm>
            <a:off x="3873600" y="162000"/>
            <a:ext cx="1774800" cy="1754280"/>
          </a:xfrm>
          <a:prstGeom prst="rect">
            <a:avLst/>
          </a:prstGeom>
          <a:ln w="0">
            <a:noFill/>
          </a:ln>
        </p:spPr>
      </p:pic>
      <p:sp>
        <p:nvSpPr>
          <p:cNvPr id="42" name="Заголовок 1"/>
          <p:cNvSpPr/>
          <p:nvPr/>
        </p:nvSpPr>
        <p:spPr>
          <a:xfrm>
            <a:off x="139680" y="4751280"/>
            <a:ext cx="885672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ущий:  доцент  кафедры  ММБП  СибГУТИ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.т.н., доц. Полетайкин Алексей Николае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0920" y="2750760"/>
            <a:ext cx="86421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Роль информации, информационных ресурсов и </a:t>
            </a: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IT-</a:t>
            </a: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услуг на современном этапе развития общ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3300"/>
                </a:solidFill>
                <a:latin typeface="Arial"/>
              </a:rPr>
              <a:t>Версии </a:t>
            </a:r>
            <a:r>
              <a:rPr b="0" lang="en-US" sz="4400" spc="-1" strike="noStrike">
                <a:solidFill>
                  <a:srgbClr val="993300"/>
                </a:solidFill>
                <a:latin typeface="Arial"/>
              </a:rPr>
              <a:t>IT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36480" y="1484280"/>
            <a:ext cx="850752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едующая серия книг - ITIL v2 - появлялась с середины 1990 годов по 2004 го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первая версия содержала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более 60 книг, то вторая - всего 9, а в третьей - 5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Основной целью второй верс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тало описание процесса эффективной передачи услуги потребителю и уменьшение разрыва между IT-областью и бизнес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виду того, что появилось много новых технологий и принципиальных изменений в IT-области с 2004 году начались работы по версии ITILv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3300"/>
                </a:solidFill>
                <a:latin typeface="Arial"/>
              </a:rPr>
              <a:t>Значение </a:t>
            </a:r>
            <a:r>
              <a:rPr b="0" lang="en-US" sz="4400" spc="-1" strike="noStrike">
                <a:solidFill>
                  <a:srgbClr val="993300"/>
                </a:solidFill>
                <a:latin typeface="Arial"/>
              </a:rPr>
              <a:t>IT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настоящее время ITIL представляет собой наиболее известную базу знаний в области Управления услугами во всем мире и отражает фундаментальные основы ведущих мировых практик в IT-обла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Arial"/>
              </a:rPr>
              <a:t>Центры сертифик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24000" y="1915920"/>
            <a:ext cx="822960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EXIN (Голландский Экзаменационный Институт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ISEB (The Information Systems Examination Board - подразделение Британского Компьютерного Обществ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55640" y="4437000"/>
            <a:ext cx="74883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едрением процессов ITIL и обучением занимается целый ряд компаний-консультант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В России "передовиками" являются Hewlett-Packard Consulting, "Ай-Теко", IT-Expe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112536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Европе существуют два центра сертификации по ITIL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IL рассматривает Управление услугами в контексте взаимодейств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"поставщик услуг - заказчик услуг"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Заказчик услу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Заказчик(Customer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это покупатель товаров или услу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азчик для поставщика IT-услуг - это человек (группа людей), который заключает соглашения с поставщиком на предоставление IT-услуг и отвечает за то, чтобы предоставленные услуги были оплачен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Поставщик услу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5280" y="2060280"/>
            <a:ext cx="8229600" cy="32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Поставщик услуг(Service provider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это организация, поставляющая услуги одному или нескольким внутренним или внешним заказчика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Пользователь услу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Пользовател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это сотрудник организации, использующий IT-услугу для выполнения повседневной работ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IT- сервис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нтральным и ключевым термином ITIL является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сервис (service)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который в русскоязычной литературе часто называют услуг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ведем определение из Глоссария ITIL v3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IT-услуга (сервис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способ предоставления ценности заказчикам через содействие им в получении результатов на выходе, которых заказчики хотят достичь без владения специфическими затратами и риска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IT- сервис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ведем другое определение IT-услуг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IT-услуга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одна или более техническая или профессиональная возможность, которая делает возможным бизнес-процесс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дальнейшем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"IT-услугу"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будем называть "услугой", а термины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"услуга"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"сервис" считать эквивалентны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Результаты на выход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Результаты на выходе (outcomes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то, что получает заказчик в конечном итог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обходимо понимать, что на практике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они отличаютс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т того,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что хоче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олучить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заказчи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значально, ввиду наличия определенных ограничивающих фактор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прощая назначение услуг, можно сказать, что они помогают улучшить результаты на выходе путем увеличения производительности и уменьшения существующих ограничен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зультатом применения услуг является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увеличение вероятнос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олучения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желаемых результат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 выход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Arial"/>
              </a:rPr>
              <a:t>Роль информации, информационных ресурсов и </a:t>
            </a: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IT-</a:t>
            </a:r>
            <a:r>
              <a:rPr b="0" lang="ru-RU" sz="2800" spc="-1" strike="noStrike">
                <a:solidFill>
                  <a:srgbClr val="993300"/>
                </a:solidFill>
                <a:latin typeface="Arial"/>
              </a:rPr>
              <a:t>услуг на современном этапе развития общ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4360" y="3573360"/>
            <a:ext cx="396072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0928"/>
                </a:solidFill>
                <a:latin typeface="Arial"/>
              </a:rPr>
              <a:t>РОСТЕТ!!!!!!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19188000">
            <a:off x="4125600" y="3141720"/>
            <a:ext cx="4859280" cy="720720"/>
          </a:xfrm>
          <a:prstGeom prst="rightArrow">
            <a:avLst>
              <a:gd name="adj1" fmla="val 50000"/>
              <a:gd name="adj2" fmla="val 16855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Arial"/>
              </a:rPr>
              <a:t>Характеристики услуги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292392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довлетворяет одну и более потребностей заказчик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держивает бизнес-цели заказчик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спринимается заказчиком как единое целое и продукт, готовый к использовани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5640" y="134136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Услуга обладает следующими характеристикам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Arial"/>
              </a:rPr>
              <a:t>Характеристики услуги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4000" y="2204640"/>
            <a:ext cx="88200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Ценность услуги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(value)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она измеряется в контексте двух поняти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Полезность услуги (Service Utility)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то, что получает заказчик в результате использования услуг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Гарантия качества услуги(Service Warranty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то, как поставщик предоставляет услугу в терминах доступности, производительности, непрерывности и безопас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26920" y="98100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Услуга обладает следующими свойствами(1)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Arial"/>
              </a:rPr>
              <a:t>Характеристики услуги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34560" y="2276280"/>
            <a:ext cx="820908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Полезност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функциональность, предлагаемая продуктом или сервисом для обеспечения определённых потребностей. Зачастую определяется как "что делает продукт/сервис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Полезность услуг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функциональность IT-услуги с точки зрения заказчи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26920" y="83664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Услуга обладает следующими характеристиками (2)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Arial"/>
              </a:rPr>
              <a:t>Характеристики услуги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896472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Гарант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обещание или гарантия того, что продукт или услуга будет соответствовать согласованным требован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Гарантия качества услуг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веренность в том, что IT-сервис будет соответствовать согласованным требованиям. Может быть в виде формального соглашения, такого как SLA или договор, либо как маркетинговое сообщение или представление торговой мар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26920" y="83664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Услуга обладает следующими свойствами (3)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Arial"/>
              </a:rPr>
              <a:t>Характеристики услуги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11280" y="1989000"/>
            <a:ext cx="853272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Полезность - то, </a:t>
            </a:r>
            <a:r>
              <a:rPr b="1" lang="en-US" sz="2800" spc="-1" strike="noStrike">
                <a:solidFill>
                  <a:srgbClr val="e50928"/>
                </a:solidFill>
                <a:latin typeface="Arial"/>
              </a:rPr>
              <a:t>чт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заказчик получа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Гарантия качества - то, </a:t>
            </a:r>
            <a:r>
              <a:rPr b="1" lang="en-US" sz="2800" spc="-1" strike="noStrike">
                <a:solidFill>
                  <a:srgbClr val="e50928"/>
                </a:solidFill>
                <a:latin typeface="Arial"/>
              </a:rPr>
              <a:t>ка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он это получае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Arial"/>
              </a:rPr>
              <a:t>Схема формирования полезности услуг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11280" y="2133720"/>
            <a:ext cx="7848360" cy="3281400"/>
            <a:chOff x="611280" y="2133720"/>
            <a:chExt cx="7848360" cy="3281400"/>
          </a:xfrm>
        </p:grpSpPr>
        <p:pic>
          <p:nvPicPr>
            <p:cNvPr id="100" name="" descr=""/>
            <p:cNvPicPr/>
            <p:nvPr/>
          </p:nvPicPr>
          <p:blipFill>
            <a:blip r:embed="rId1"/>
            <a:srcRect l="17633" t="23705" r="35285" b="40517"/>
            <a:stretch/>
          </p:blipFill>
          <p:spPr>
            <a:xfrm>
              <a:off x="611280" y="2133720"/>
              <a:ext cx="7848360" cy="328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 txBox="1"/>
            <p:nvPr/>
          </p:nvSpPr>
          <p:spPr>
            <a:xfrm>
              <a:off x="611280" y="2133720"/>
              <a:ext cx="7848360" cy="3281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53964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лезность достигается одним из следующих способ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еспечение требуемой заказчиком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производительност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странение или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снижение ограничени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Arial"/>
              </a:rPr>
              <a:t>Производитель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362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роизводительность (Performance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мера того, что достигнуто или выработано системой, человеком, командой, процессом, или ИТ-услуг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 производительностью здесь понимается возможность для заказчика делать больше за более короткое время, с меньшими затратами или с потреблением меньших ресурсов. Другими словами, некая оптимизация, которая позволит заказчику решить задачу за меньшее время и деньг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Arial"/>
              </a:rPr>
              <a:t>Ограни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Ограниче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это запрет или невозможность выполнения каких-то действ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арантия складывается из четырех основных аспект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ступ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щ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езопас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прерыв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нятно, что измерить гарантию качества услуги проще, чем ее полезность для бизне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Управление </a:t>
            </a: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IT-</a:t>
            </a: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сервис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9640" y="907920"/>
            <a:ext cx="81360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Управление IT-услугами (сервисами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это совокупность специализированных организационных возможностей для предоставления ценности заказчикам в форме услу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 "специализированными возможностями" понимаются процессы, методы, функции и роли, которые может использовать поставщик для предоставления услуги заказчику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оссии предпочитают термин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ервис-менеджмен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обозначения управления IT-сервисами используется также аббревиатура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ITSM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(IT Service Managemen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3300"/>
                </a:solidFill>
                <a:latin typeface="Arial"/>
              </a:rPr>
              <a:t>Предпосылки роста </a:t>
            </a:r>
            <a:r>
              <a:rPr b="0" lang="en-US" sz="4000" spc="-1" strike="noStrike">
                <a:solidFill>
                  <a:srgbClr val="993300"/>
                </a:solidFill>
                <a:latin typeface="Arial"/>
              </a:rPr>
              <a:t>IT- </a:t>
            </a:r>
            <a:r>
              <a:rPr b="0" lang="ru-RU" sz="4000" spc="-1" strike="noStrike">
                <a:solidFill>
                  <a:srgbClr val="993300"/>
                </a:solidFill>
                <a:latin typeface="Arial"/>
              </a:rPr>
              <a:t>услу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явились персональные компьюте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тер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окальные се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хнология клиент-серв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информация, средства ее обработки и управления стали основными стратегическими ресурсами любой организации, а достижение бизнес целей стало напрямую зависеть от IT-област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96720" y="-360"/>
            <a:ext cx="90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Arial"/>
              </a:rPr>
              <a:t>Качество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В IT-област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совокупное качество услуги фактически определяется в процессе ее эксплуатации, и его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нельз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однозначно определить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заране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Качество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совокупность характеристик объекта, относящихся к его способности удовлетворить установленные и предполагаемые потреб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Arial"/>
              </a:rPr>
              <a:t>Качество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ставщик должен помнить о необходимости обеспечения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постоянного качеств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о есть предоставляемая услуга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должна быть стабильной во времен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Arial"/>
              </a:rPr>
              <a:t>Качество(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9640" y="2491920"/>
            <a:ext cx="822960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Основной целью сервис-менеджмент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 контексте ITIL является предоставление заказчикам надежных, стабильных IT-услуг, которые полностью удовлетворят их потребности в заданной обла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3"/>
          <p:cNvSpPr/>
          <p:nvPr/>
        </p:nvSpPr>
        <p:spPr>
          <a:xfrm>
            <a:off x="126360" y="1177920"/>
            <a:ext cx="8905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Arial"/>
              </a:rPr>
              <a:t>Спасибо за внимание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316080" y="4579200"/>
            <a:ext cx="8619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Возможные контак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Электронная почта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ea typeface="Arial"/>
                <a:hlinkClick r:id="rId1"/>
              </a:rPr>
              <a:t>alex.poletaykin@gmail.com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kype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логин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polietaiki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Заголовок 1"/>
          <p:cNvSpPr/>
          <p:nvPr/>
        </p:nvSpPr>
        <p:spPr>
          <a:xfrm>
            <a:off x="395280" y="2492280"/>
            <a:ext cx="8273880" cy="17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ущий:  доцент  кафедры  ММБП  СибГУТИ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.т.н., доц. Полетайкин Алексей Николае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кон философии (рынка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2924280"/>
            <a:ext cx="2449440" cy="1728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личеств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лу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59280" y="3357720"/>
            <a:ext cx="2519280" cy="720720"/>
          </a:xfrm>
          <a:prstGeom prst="rightArrow">
            <a:avLst>
              <a:gd name="adj1" fmla="val 50000"/>
              <a:gd name="adj2" fmla="val 8738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96000" y="2852640"/>
            <a:ext cx="2808360" cy="18018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ч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услу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Arial"/>
              </a:rPr>
              <a:t>Общие принципы эффективного использования IT-сервисов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4000" y="2332080"/>
            <a:ext cx="882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1980-х годах британское правительство поручило Центральному агентству по вычислительной технике и коммуникациям (CCTA) разработать общие принципы эффективного использования IT-сервисов в Великобритан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Arial"/>
              </a:rPr>
              <a:t>Общие принципы эффективного использования IT-сервисов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882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ак появился первый документ, объединяющий в себе лучшие практики в управлении IT-услуг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новной его особенностью стала разработка единого подхода, не зависящего от поставщика услу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Arial"/>
              </a:rPr>
              <a:t>Общие принципы эффективного использования IT-сервисов 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82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конце 1980-х-начале 1990 вышла серия книг о том, как управлять IT-услугами и о взаимодействии IT-области с пользователями этих услу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а библиотека книг и была названа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Библиотекой инфраструктуры информационных технологий или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ITIL(the IT Infrustructure Library)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Arial"/>
              </a:rPr>
              <a:t>Библиотека инфраструктуры информационных технологий  - IT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82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ITI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представляет собой набор публикаций, содержащих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рекомендации по предоставлению качественных услу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а также процессов и компонентов, необходимых для их поддерж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новная цель ITIL - продвижение современных знаний и обмен опытом в обла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новная особенность ITIL - организация Управления услугами в виде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совокупности процесс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3300"/>
                </a:solidFill>
                <a:latin typeface="Arial"/>
              </a:rPr>
              <a:t>Форум </a:t>
            </a:r>
            <a:r>
              <a:rPr b="0" lang="en-US" sz="4400" spc="-1" strike="noStrike">
                <a:solidFill>
                  <a:srgbClr val="993300"/>
                </a:solidFill>
                <a:latin typeface="Arial"/>
              </a:rPr>
              <a:t>IT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4247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1991 году после того, как IT-сообщество заинтересовалось ITIL, был создан форум -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IT Information Management Forum (ITIMF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го целью стало объединение специалистов IT-области, обмен идеями и опыт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дальнейшем название сменилось на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IT Service Management Forum (ITSMF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йчас этот форум объединяет в себе множество специалистов IT-области, и количество пользователей форума по всему миру растет ежедневн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5T05:42:50Z</dcterms:created>
  <dc:creator>Admin</dc:creator>
  <dc:description/>
  <dc:language>en-US</dc:language>
  <cp:lastModifiedBy>LEXUS</cp:lastModifiedBy>
  <dcterms:modified xsi:type="dcterms:W3CDTF">2018-09-09T13:13:07Z</dcterms:modified>
  <cp:revision>26</cp:revision>
  <dc:subject/>
  <dc:title>Управление IT-сервисами и контентом</dc:title>
</cp:coreProperties>
</file>